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1166B-1E32-43D0-B93A-677267E51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15B68-D7A4-4607-BAB3-00E7D5DE16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7A527-BBE9-4F25-9FE6-DCCE429781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EFFA2-8E6D-4025-8AF2-FE6D93F122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EADAB-ACC0-4898-936A-1658D9C3F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39C04D-BD81-4691-B501-758008C0D9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7F894-1958-4CDE-95D3-B3E30357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CACA2A-8CB4-4887-9401-0F5C73D34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4E783E-F689-4946-8E7D-70CBB09FD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839B7-094A-4E13-803D-01FEDB58C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118D56-541F-4914-B6B1-7827A364B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49C21-2797-4785-8A0D-75392C1AA4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A88E0-533B-4160-82CB-5715E62F2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2847E7-99E6-4212-BC89-F6F423D69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C909C-8D70-458A-AB37-6067808DA5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137C52-CBB9-41FC-8ABF-0419795E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3EAD6-3AD4-41EE-B0DF-F983A2F91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6ACA4-BE3A-44C9-98CA-0AC0A21A0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188D5-5731-4AA8-ABFD-C567EAF9DE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DA7FF-A9FA-4C0F-A37B-CC7E2AD05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E03E0-70F6-494C-AD60-3AFE43F816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31245-7845-4BEC-B9AE-029D4E9E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46C6B-3E3C-4151-AFE9-53D27E70F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A9BBB-30DA-4D47-9175-7A9F83E4B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BA927-CF0E-4929-B5AF-18417F20A4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44DF4-D10E-41A0-B886-705A8ECC5FA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evelopment of CMU Sphinx From 2004 to 2006 Jul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n Observer’s Perspectiv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1371600" y="3428640"/>
            <a:ext cx="6477120" cy="297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 Ch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 Gouve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id Huggins-Dain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sur Ravishanka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ex Rudnick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 S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"/>
              <p:cNvSpPr txBox="1"/>
              <p:nvPr/>
            </p:nvSpPr>
            <p:spPr>
              <a:xfrm>
                <a:off x="2057400" y="3809880"/>
                <a:ext cx="801720" cy="868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03" name=""/>
          <p:cNvSpPr/>
          <p:nvPr/>
        </p:nvSpPr>
        <p:spPr>
          <a:xfrm>
            <a:off x="3429000" y="281952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373392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715000" y="36576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676520" y="2666880"/>
            <a:ext cx="144756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676520" y="2743200"/>
            <a:ext cx="1676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6019920" y="266688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5867280" y="2743200"/>
            <a:ext cx="2362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0" name=""/>
              <p:cNvSpPr txBox="1"/>
              <p:nvPr/>
            </p:nvSpPr>
            <p:spPr>
              <a:xfrm>
                <a:off x="6324480" y="3809880"/>
                <a:ext cx="876600" cy="876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  <p:sp>
        <p:nvSpPr>
          <p:cNvPr id="111" name=""/>
          <p:cNvSpPr/>
          <p:nvPr/>
        </p:nvSpPr>
        <p:spPr>
          <a:xfrm>
            <a:off x="1600200" y="2438280"/>
            <a:ext cx="6019920" cy="23623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600200" y="5638680"/>
            <a:ext cx="1219320" cy="99072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203640" y="5867280"/>
            <a:ext cx="2539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egend: The Black Bo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behind 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rongly focus on the decod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nd to ignore other important components (e.g. model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oisy Channel Point of View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17" name=""/>
              <p:cNvSpPr txBox="1"/>
              <p:nvPr/>
            </p:nvSpPr>
            <p:spPr>
              <a:xfrm>
                <a:off x="1752480" y="3124080"/>
                <a:ext cx="5639040" cy="3036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limUpp>
                          <m:e>
                            <m:acc>
                              <m:accPr>
                                <m:chr m:val="^"/>
                              </m:accPr>
                              <m:e>
                                <m:r>
                                  <m:t xml:space="preserve">W</m:t>
                                </m:r>
                              </m:e>
                            </m:acc>
                          </m:e>
                          <m:lim/>
                        </m:limUpp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|</m:t>
                        </m:r>
                        <m:r>
                          <m:t xml:space="preserve">A</m:t>
                        </m:r>
                        <m:r>
                          <m:t xml:space="preserve">)</m:t>
                        </m:r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f>
                          <m:num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|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W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P</m:t>
                            </m:r>
                            <m:r>
                              <m:t xml:space="preserve">(</m:t>
                            </m:r>
                            <m:r>
                              <m:t xml:space="preserve">A</m:t>
                            </m:r>
                            <m:r>
                              <m:t xml:space="preserve">)</m:t>
                            </m:r>
                          </m:den>
                        </m:f>
                      </m:e>
                      <m:e>
                        <m:acc>
                          <m:accPr>
                            <m:chr m:val="^"/>
                          </m:accPr>
                          <m:e>
                            <m:r>
                              <m:t xml:space="preserve">W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arg</m:t>
                        </m:r>
                        <m:limLow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max</m:t>
                            </m:r>
                          </m:e>
                          <m:lim>
                            <m:r>
                              <m:t xml:space="preserve">W</m:t>
                            </m:r>
                            <m:r>
                              <m:t xml:space="preserve">∈</m:t>
                            </m:r>
                            <m:sSup>
                              <m:e>
                                <m:r>
                                  <m:t xml:space="preserve">W</m:t>
                                </m:r>
                              </m:e>
                              <m:sup/>
                            </m:sSup>
                          </m:lim>
                        </m:limLow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A</m:t>
                        </m:r>
                        <m:r>
                          <m:t xml:space="preserve">|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  <m:r>
                          <m:t xml:space="preserve">P</m:t>
                        </m:r>
                        <m:r>
                          <m:t xml:space="preserve">(</m:t>
                        </m:r>
                        <m:r>
                          <m:t xml:space="preserve">W</m:t>
                        </m:r>
                        <m:r>
                          <m:t xml:space="preserve">)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18" name=""/>
          <p:cNvSpPr/>
          <p:nvPr/>
        </p:nvSpPr>
        <p:spPr>
          <a:xfrm>
            <a:off x="3048120" y="13716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cod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5334120" y="2209680"/>
            <a:ext cx="23619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140184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685800" y="22096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"/>
              <p:cNvSpPr txBox="1"/>
              <p:nvPr/>
            </p:nvSpPr>
            <p:spPr>
              <a:xfrm>
                <a:off x="1219320" y="990720"/>
                <a:ext cx="1336680" cy="14475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"/>
              <p:cNvSpPr txBox="1"/>
              <p:nvPr/>
            </p:nvSpPr>
            <p:spPr>
              <a:xfrm>
                <a:off x="6019920" y="1066680"/>
                <a:ext cx="1371600" cy="13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W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t means to softwa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coustic mode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e need to represent and estimate parameters of th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language model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n the models, we need to search through all possible word sequences.  Or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deco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6" name=""/>
              <p:cNvSpPr txBox="1"/>
              <p:nvPr/>
            </p:nvSpPr>
            <p:spPr>
              <a:xfrm>
                <a:off x="4952880" y="2209680"/>
                <a:ext cx="1955880" cy="681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7" name=""/>
              <p:cNvSpPr txBox="1"/>
              <p:nvPr/>
            </p:nvSpPr>
            <p:spPr>
              <a:xfrm>
                <a:off x="4952880" y="3733920"/>
                <a:ext cx="1476360" cy="761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8" name=""/>
              <p:cNvSpPr txBox="1"/>
              <p:nvPr/>
            </p:nvSpPr>
            <p:spPr>
              <a:xfrm>
                <a:off x="2590920" y="5486400"/>
                <a:ext cx="5715000" cy="1015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^"/>
                      </m:accPr>
                      <m:e>
                        <m:r>
                          <m:t xml:space="preserve">W</m:t>
                        </m:r>
                      </m:e>
                    </m:acc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arg</m:t>
                    </m:r>
                    <m:limLow>
                      <m:e>
                        <m:r>
                          <m:rPr>
                            <m:lit/>
                            <m:nor/>
                          </m:rPr>
                          <m:t xml:space="preserve">max</m:t>
                        </m:r>
                      </m:e>
                      <m:lim>
                        <m:r>
                          <m:t xml:space="preserve">W</m:t>
                        </m:r>
                        <m:r>
                          <m:t xml:space="preserve">∈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/>
                        </m:sSup>
                      </m:lim>
                    </m:limLow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A</m:t>
                    </m:r>
                    <m:r>
                      <m:t xml:space="preserve">|</m:t>
                    </m:r>
                    <m:r>
                      <m:t xml:space="preserve">W</m:t>
                    </m:r>
                    <m:r>
                      <m:t xml:space="preserve">)</m:t>
                    </m:r>
                    <m:r>
                      <m:t xml:space="preserve">P</m:t>
                    </m:r>
                    <m:r>
                      <m:t xml:space="preserve">(</m:t>
                    </m:r>
                    <m:r>
                      <m:t xml:space="preserve">W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ee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981080" y="1600200"/>
            <a:ext cx="213372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1600200"/>
            <a:ext cx="2133360" cy="1295280"/>
          </a:xfrm>
          <a:prstGeom prst="rect">
            <a:avLst/>
          </a:prstGeom>
          <a:solidFill>
            <a:srgbClr val="97ba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LM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600200" y="1523880"/>
            <a:ext cx="601992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hilosophy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000" spc="-1" strike="noStrike">
                <a:solidFill>
                  <a:srgbClr val="000000"/>
                </a:solidFill>
                <a:latin typeface="Arial"/>
              </a:rPr>
              <a:t>When you don’t know, search with your knowledg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dvantages of 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grammers tend to consider the problems join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 communication issues between modules own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New Black Box vs The Old Black Box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Old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arrow our ways to think of the proble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otivates solely research on search algorith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New Black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esn’t ignore the fact that search is importa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give correct emphasis on all the necessary compon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990720" y="1752480"/>
            <a:ext cx="7010280" cy="22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Current CMU Sphinx think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  <a:ea typeface="Arial"/>
              </a:rPr>
              <a:t>The New Black Box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2004 Jan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ibl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1447920" y="4419720"/>
            <a:ext cx="6400800" cy="190476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523880" y="1447920"/>
            <a:ext cx="3048120" cy="1523880"/>
          </a:xfrm>
          <a:prstGeom prst="rect">
            <a:avLst/>
          </a:prstGeom>
          <a:solidFill>
            <a:srgbClr val="c0c0c0">
              <a:alpha val="81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886200" y="1219320"/>
            <a:ext cx="4572000" cy="3276360"/>
          </a:xfrm>
          <a:prstGeom prst="cloudCallout">
            <a:avLst>
              <a:gd name="adj1" fmla="val -28643"/>
              <a:gd name="adj2" fmla="val 27226"/>
            </a:avLst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590560"/>
            <a:ext cx="8229600" cy="2057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the role of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oftware 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</a:t>
            </a:r>
            <a:br>
              <a:rPr sz="4400"/>
            </a:b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Speech Recognition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57200" y="457200"/>
            <a:ext cx="82296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Arial"/>
              </a:rPr>
              <a:t>The Main Theme for Today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leeping Decoders: (Sphinx Sibling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rength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rehensive product li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ssu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 Decoders came with many versions, code tends to duplic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2 -&gt; fast but not accura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0 -&gt; very accurate but very slo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3.3 -&gt; accurate, faster than sphinx 3.0 but slower than 1x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phinx 4 not yet complet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ssues at the time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M Trainer (SphinxTrai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what we supported was simp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here is speaker adaptation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M Trainer (CMU-Cambridge LM Toolkit V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rength: it wor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nes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ftware was sleeping -&gt; development has stopp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mportant functionalities weren’t in the package: e.g. LM Interpola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General Comments at the time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828440" y="1752480"/>
            <a:ext cx="7086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cannot do feature Y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 have no ideas what you are up to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 one is working on Sphinx any more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ur job is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not difficult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ut very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hallenging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” –Prof. Alex Rudnick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is cursed.” (I made this one up.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riddle of Sphinx couldn’t be solved” –Made up by Arthur Toth in SphinxLunch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fter : CMU Sphinx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and Friends (now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429000" y="4572000"/>
            <a:ext cx="2286000" cy="160020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Broth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066680" y="548640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715000" y="5410080"/>
            <a:ext cx="23623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1676520" y="4419720"/>
            <a:ext cx="14475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676520" y="4495680"/>
            <a:ext cx="167616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coustic Sig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19920" y="4419720"/>
            <a:ext cx="243828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5867280" y="4495680"/>
            <a:ext cx="2362320" cy="159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Word Sequenc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312408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cousti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4800600" y="3124080"/>
            <a:ext cx="1143000" cy="1143000"/>
          </a:xfrm>
          <a:prstGeom prst="flowChartMagneticDisk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Langu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Mod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3733920" y="4267080"/>
            <a:ext cx="53316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800600" y="42670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82880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SphinxTr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ebugg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4876920" y="1600200"/>
            <a:ext cx="2286000" cy="129528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CMU-C L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Toolkit V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Arial"/>
              </a:rPr>
              <a:t>alph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666880" y="2895480"/>
            <a:ext cx="5335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5715000" y="2895480"/>
            <a:ext cx="45720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1295280" y="1523880"/>
            <a:ext cx="6553440" cy="480060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CDHM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now use F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3.X (gimmicky name of Sphinx 3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uld run faster if there are magic tuning str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rging of Sphinx 3.0 and Sphinx 3.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pport speaker adapt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-architec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 Brothers now (cont.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great effort of Sun Developers and mainly super speech adviso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eta complet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Quite popular with users and new startup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cketSphinx (by Dav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ewly added member of the fami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rst open source embedded LVC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oject 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ject L : Project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adon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Goal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Extensions and Re-development o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MU-Cambridge LM Toolkit V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nal product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MU-Cambridge LM Toolkit Version 3 (alpha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tory of V3: 3 “Young” Persons and their Inspiring Stories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uden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rite the perl scri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tterly frustrated by training LM, decide to write a set of new perl 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Facult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vince us to license the code in BS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ed to see LM toolkit to be BSD again but has no tim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Young Staff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dd 32 bit LM suppor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d nothing to do on the flight back to HK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ant to do something he thought was useles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 of V3 alph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port more than 65k words (32 bit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rl wrapper by Young Stud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 step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mplified process of LM interpolation and Class-based LM train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New functional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M interpolation (lm_combine) (by Wen, Moss, Dav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ndom text generation in 3-gram (by Arthur Toth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dified Kneser-Ney smoothing (by Prof. Yannick Estève from L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[For the off-line viewer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7200" y="2590920"/>
            <a:ext cx="82296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[This is Arthur Chan’s conclusion: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Joint consideration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of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3 software component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Arial"/>
              </a:rPr>
              <a:t>is crucial.]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Arial"/>
              </a:rPr>
              <a:t>Read on, you’ll see his argument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lessing for this chang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upport by the licen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missions from all copyright own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rof. Rosenfeld (also make decision on licensing issue for CMU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Robinson (also make decision on licensing issue for Cambridg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. Clarks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lessing mails sent to public mailing lis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3 will be re-licensed under BS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phinxTrain no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upport speaker adapta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LLR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P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TL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xed many bu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till have many to g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grated to the tutorials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R code finally removed, we could distribute it now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echnology explored in last few year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arch / GMM Comput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peaker Adaptation and Normaliz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mbedded Speech Recogni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M Trai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Future Opportunities -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ink the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Three Modules Together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chnolog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-gram  (N&gt;3) (LMtk + SX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adaptation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-line training (SX + ST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ftwa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grated package with comprehensive support on SR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ctation (SX + ST + LMtk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efore/After, the differ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nt more time to secure training (both AM and LM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rchitecture has been re-thought within module and across module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ur food-chain is secured in the reposi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M, LM and Decoder’s code are under one code-base (cmusphinx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me Good Sig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urceforge’s Project of the Month (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arch 2006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art to be decently competitive aga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one used our decoder(s) and they look happ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sers actually say “Thank You”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 companies used our recogniz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Some of them dare to make profits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We still need to catch up in accuracy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inly on better algorithmic support on domain specific developme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Observ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10xRT system becomes 5 years later 1xRT syst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day’s most accurate system becomes BL of next years most accurate system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1a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w seems to be just another starting point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 on Our Technology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3716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CMU Sphinx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=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en Source SR in BS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Anyone who tri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to solve a legacy problem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ecomes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3600" spc="-1" strike="noStrike">
                <a:solidFill>
                  <a:srgbClr val="000000"/>
                </a:solidFill>
                <a:latin typeface="Arial"/>
              </a:rPr>
              <a:t>a legacy probl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1: Many legacy decision could actually be clev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ollary 2: Not every change is go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spectiv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ainly Arthur Chan’s observ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wo Role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 develop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The Grand Janitor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s an observer of ev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histor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Lesson 2 : on Researc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ost of 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WER declin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comes from better acoustic model and language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ctually the trainers are the key piece of developmen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 should now focus on 1) acoustic segmenter, 2), speaker adaptation and 3) discriminative train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3: on Develop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Why some of our code never go into Sphinx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de without source controls is close to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seles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1: If you want your code to survive, check i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rollary 2: If you don’t know what is source control, you probably need to learn it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sson 4: My Favorite, the current Sphinx Mo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ever Over/Under-estimate yourself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 never know what kind of mess you could make.”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10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Dr. Evandro Gouvê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gement – Current Team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2666880" y="1523880"/>
            <a:ext cx="1630440" cy="241956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tretch/>
        </p:blipFill>
        <p:spPr>
          <a:xfrm>
            <a:off x="4572000" y="1523880"/>
            <a:ext cx="2057400" cy="243864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762120" y="1523880"/>
            <a:ext cx="1600200" cy="2362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380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rthu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590920" y="4038480"/>
            <a:ext cx="1676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Davi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572000" y="4038480"/>
            <a:ext cx="2209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Evandr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71629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Yita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 flipH="1">
            <a:off x="76176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62120" y="1523880"/>
            <a:ext cx="1600200" cy="2362320"/>
          </a:xfrm>
          <a:prstGeom prst="line">
            <a:avLst/>
          </a:prstGeom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0" name="" descr=""/>
          <p:cNvPicPr/>
          <p:nvPr/>
        </p:nvPicPr>
        <p:blipFill>
          <a:blip r:embed="rId3"/>
          <a:stretch/>
        </p:blipFill>
        <p:spPr>
          <a:xfrm>
            <a:off x="6858000" y="1523880"/>
            <a:ext cx="2057400" cy="243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Hiring: The Grand Janitor 2</a:t>
            </a:r>
            <a:r>
              <a:rPr b="1" i="1" lang="en-US" sz="4000" spc="-1" strike="noStrike" baseline="30000">
                <a:solidFill>
                  <a:srgbClr val="000000"/>
                </a:solidFill>
                <a:latin typeface="Arial"/>
              </a:rPr>
              <a:t>nd</a:t>
            </a:r>
            <a:r>
              <a:rPr b="1" i="1" lang="en-US" sz="4000" spc="-1" strike="noStrike">
                <a:solidFill>
                  <a:srgbClr val="000000"/>
                </a:solidFill>
                <a:latin typeface="Arial"/>
              </a:rPr>
              <a:t> – 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Mixture of Several Jobs.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lease Manag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Kick other people to fix various thing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peech Scientist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Tell users to give up when they randomly read some useless paper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ystem Archi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Rewrite the code in many different ways but do the same th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Mediator of Conflic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pseudo-philosophical com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re Develop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Write crappy code and occasionally debug them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isor –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o what Dr. Phil does on your friends, your users and most importantly, your boss(es) and ex-bo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knowledgement – Advis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4800600" y="1676520"/>
            <a:ext cx="1819440" cy="2286000"/>
          </a:xfrm>
          <a:prstGeom prst="rect">
            <a:avLst/>
          </a:prstGeom>
          <a:ln w="0">
            <a:noFill/>
          </a:ln>
        </p:spPr>
      </p:pic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877080" y="1676520"/>
            <a:ext cx="1697040" cy="228600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2762280" y="1676520"/>
            <a:ext cx="1809720" cy="2295360"/>
          </a:xfrm>
          <a:prstGeom prst="rect">
            <a:avLst/>
          </a:prstGeom>
          <a:ln w="0">
            <a:noFill/>
          </a:ln>
        </p:spPr>
      </p:pic>
      <p:sp>
        <p:nvSpPr>
          <p:cNvPr id="247" name=""/>
          <p:cNvSpPr/>
          <p:nvPr/>
        </p:nvSpPr>
        <p:spPr>
          <a:xfrm>
            <a:off x="762120" y="1676520"/>
            <a:ext cx="1752480" cy="228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Arial"/>
                <a:ea typeface="Arial"/>
              </a:rPr>
              <a:t>?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066680" y="403848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e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08660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ic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0481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Ala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105520" y="4038480"/>
            <a:ext cx="1523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Arial"/>
              </a:rPr>
              <a:t>Rav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Acknowledement – CMU-Cambridge  LM Toolkit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ributors: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avid Huggins-Daines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anlada Chotimongkol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hur Toth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Xu We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Prof. Yannick Esteve in LIUM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scuss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ank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7" name="" descr=""/>
          <p:cNvPicPr/>
          <p:nvPr/>
        </p:nvPicPr>
        <p:blipFill>
          <a:blip r:embed="rId1"/>
          <a:stretch/>
        </p:blipFill>
        <p:spPr>
          <a:xfrm>
            <a:off x="2324160" y="2098800"/>
            <a:ext cx="4495680" cy="265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ack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CMU Sphinx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rge vocabulary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speech recognizer</a:t>
            </a:r>
            <a:r>
              <a:rPr b="1" i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 collection of tools and resource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Organization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work? The Wrong Mode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, A leader yell: “Sphinx Team Assemble!!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, The team then assemble and follow commands of the lea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, Things get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4, Once again Sphinx Team has saved the day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How does it really work? 1-3/10 step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one in the team dream up with a new featu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communicate with the tea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do you guys think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velopers start to give their “two cents” on the problem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.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According to Harry G. Frankfurt, what you talk about is B.S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Don’t underestimate yourself, you don’t know what kind of mess you will make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That doesn’t sound like the best idea……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The guy doesn’t give up and others give OK (4-6/10 steps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 go on to implement the cod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eck the code in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eer review happens right after codes check-i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, example comment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rthur: “That is not the right balance according to Yin and Ya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andro: “I wonder whether you know C programming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ve: “What is the rationale behind your change?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Yitao: “*Sigh*, I need to recompile Speechalyzer and Smartnote again.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utomatic Tests (the final test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u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check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there is no FAIL in testing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quire pasing 70 to 80 test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8,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tandard regression tests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ake perf-st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ning tests on 3 corpora and make sure the results are matched the p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9,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achines automated both 7 and 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ils sent to everyone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0, </a:t>
            </a: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The code could finally screw up people around the world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”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embers are all funded by CM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fferent purposes, but check-in to same code-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mmon goal priority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9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Accuracy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peed &amp; Accuracy trade off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em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fa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e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User-Friendline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haracteristic of our Developmen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role of manager/lead developer is significantly weaken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lease could take some time –require good release manageme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od architecture is very importan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re skillful and knowledgeable programm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ghly practical: results worth more than words and opin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ssions of the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ake care of CMU’s daily need of quality S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ontinue to improve the system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Bridge the industry and academia.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 on Te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rrent development i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Decentraliz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Automat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Skill-demandin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e probably want to keep in this wa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amily of CMU Sphinx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cketSphinx (by Dave since Oct 200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nguage Model Trainer (</a:t>
            </a:r>
            <a:r>
              <a:rPr b="0" i="1" lang="en-US" sz="3200" spc="-1" strike="noStrike">
                <a:solidFill>
                  <a:srgbClr val="bc1a31"/>
                </a:solidFill>
                <a:latin typeface="Arial"/>
              </a:rPr>
              <a:t>new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Arial"/>
              </a:rPr>
              <a:t>The Sphinx Develope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is maintained b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olunteer programmers/researchers who like speech recogni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l contribution go to the sam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debas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oal : Sustainable development of Sphin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hinx Developer Meetings are held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gularly (as in an aperiodic func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retly (in the sense that everyone know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decide the way to go in Sphinx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(~30 pages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ftware of Speech Recogni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should we develop? What should a comprehensive software do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CMU Sphinx, Before/Aft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Lessons Learne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(Optional) Team and Structure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oftware of Speech Recognition Syste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3T02:08:34Z</dcterms:created>
  <dc:creator>Arthur Chan</dc:creator>
  <dc:description/>
  <dc:language>en-US</dc:language>
  <cp:lastModifiedBy>Arthur Chan</cp:lastModifiedBy>
  <dcterms:modified xsi:type="dcterms:W3CDTF">2006-06-23T01:41:41Z</dcterms:modified>
  <cp:revision>908</cp:revision>
  <dc:subject/>
  <dc:title>Development of CMU Sphinx in 10 Internet Years</dc:title>
</cp:coreProperties>
</file>