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EEFB-F7DB-4097-B84F-D02A306A9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9082E-CC3D-4D95-8125-89096905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7212-26E7-46CF-B3CC-69234E6148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F5B78-CE56-4175-A70F-8A5304B5EC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68438-7ADF-4211-9F54-E79D33A010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0D93A-0E4B-401E-B93B-8F4075D64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3F892D-033C-4F5B-BE3C-DA78FFDFF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998A42-99A2-4A08-B042-EFCCC14781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B0AEB-4495-4EEE-B152-8B89E4C723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F3D3F-C290-4A2F-90E3-A9F00A224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846CA-952C-47E7-BE68-2233E73A1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A806-F6A5-4024-9FA5-C777A2A3B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60FD2-D534-472E-95D7-93EE25A55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B9F80-27BA-4A52-BEC4-C6545DF51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8E456-B1A1-4024-82F8-799C13891C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7D2E9A-01E5-432F-9DAA-7B9923DCDA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53D0E-D538-4C6B-B7D1-5821C2574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607D6-583F-49E6-97FB-C2A1A717B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EB888-AAB1-40C6-B304-6BC973274C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A9BE9-063B-4A12-96EA-5F0E04C15B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CD0AB-49FE-466D-AECA-F62F145EA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66821-25A2-4DD7-872E-E1A47293D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04910-BB31-4DFA-91EB-30DF8DC328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E1D0-D163-4B54-B859-C204803F9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51C878-E7BD-43B5-99FD-57C455169C85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E89B3-C75B-46D6-8AC9-7839C9C5703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phinxPresentation.html" TargetMode="Externa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hyperlink" Target="http://www.cs.cmu.edu/~robust/Tutorial/" TargetMode="External"/><Relationship Id="rId2" Type="http://schemas.openxmlformats.org/officeDocument/2006/relationships/hyperlink" Target="http://www.speech.cs.cmu.edu/sphinx/sphinx3/doxygen/html/" TargetMode="External"/><Relationship Id="rId3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5 to X=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428640"/>
            <a:ext cx="662940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vid J. Huggins-Da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sur Ravishank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0866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14400" y="1981080"/>
            <a:ext cx="2133720" cy="119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791320" y="190512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 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48120" y="23623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5791320" y="3052800"/>
            <a:ext cx="25905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3809880"/>
            <a:ext cx="2590560" cy="9169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, class-based LM,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010280" y="28195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010280" y="3429000"/>
            <a:ext cx="18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1600200" y="3200400"/>
            <a:ext cx="29718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05120" y="2895480"/>
            <a:ext cx="106668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 flipH="1" flipV="1">
            <a:off x="4571640" y="3809520"/>
            <a:ext cx="121932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04920" y="3048120"/>
            <a:ext cx="1218960" cy="129528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.X/3.0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838080" y="4648320"/>
            <a:ext cx="6400800" cy="20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Better Search Architecture/Implemen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More support for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 Gentle Re-factoring of code-bas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Somme support on FSG decoding and confidence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-Better Documentation/Tutoria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4267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7620120" y="4952880"/>
            <a:ext cx="1295280" cy="1067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lm_conver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lm3g2dm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>
            <a:off x="7238520" y="548640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480" y="5289480"/>
            <a:ext cx="85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6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– Progress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om the perspective of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develop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obser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are we now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will we go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mmary of 5 tal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archan/sphinxPresentation.htm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oftware Architecture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f Sphinx 3.X (X=6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otivation of Re-Architecting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 start to need a new search algorithm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w search algorithm development could have risk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don’t want to throw away the old on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re replacement could cause backward compatibility proble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has grown to a stage w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hanges could be very hard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programmers become active at the same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VS conflict could become often if things are controlled by “if-else”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of Sphinx 3.X (X&lt;6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84240" y="1981080"/>
            <a:ext cx="7175520" cy="105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tch sequential Architecture (Shaw 96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executable has customized sub-rout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0" name=""/>
          <p:cNvSpPr/>
          <p:nvPr/>
        </p:nvSpPr>
        <p:spPr>
          <a:xfrm>
            <a:off x="685800" y="3200400"/>
            <a:ext cx="1143000" cy="53352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133720" y="3200400"/>
            <a:ext cx="1143000" cy="53352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cf01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581280" y="3200400"/>
            <a:ext cx="1524240" cy="53352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ecode_anytop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638680" y="3200400"/>
            <a:ext cx="99072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315200" y="3200400"/>
            <a:ext cx="1219320" cy="53352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3733920"/>
            <a:ext cx="3812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>
            <a:off x="2438280" y="3733920"/>
            <a:ext cx="45720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066680" y="46483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rox_cont_mga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066680" y="518148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06668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290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4290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2670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5257800" y="4648320"/>
            <a:ext cx="167652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5257800" y="5334120"/>
            <a:ext cx="167652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257800" y="57150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095880" y="37339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4648320"/>
            <a:ext cx="1676160" cy="609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GMM Comput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Using gauden &amp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none Method 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162920" y="5334120"/>
            <a:ext cx="1676160" cy="304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earch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57150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cess Controller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924680" y="3733920"/>
            <a:ext cx="0" cy="304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06668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34290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257800" y="624852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7162920" y="624852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Line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06668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kb and kbcor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4290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257800" y="4114800"/>
            <a:ext cx="167652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162920" y="4114800"/>
            <a:ext cx="1676160" cy="4572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ation 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99072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5268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181480" y="4038480"/>
            <a:ext cx="190512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86600" y="4038480"/>
            <a:ext cx="1828800" cy="28195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Diagram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"/>
          <p:cNvSpPr/>
          <p:nvPr/>
        </p:nvSpPr>
        <p:spPr>
          <a:xfrm>
            <a:off x="21600" y="6324480"/>
            <a:ext cx="243540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59640" y="6272280"/>
            <a:ext cx="2463120" cy="58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ntroller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strac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154400" y="6324480"/>
            <a:ext cx="296748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mplementation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870600" y="6324480"/>
            <a:ext cx="2055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362320" y="1676520"/>
            <a:ext cx="2133360" cy="1143000"/>
          </a:xfrm>
          <a:prstGeom prst="rect">
            <a:avLst/>
          </a:prstGeom>
          <a:gradFill rotWithShape="0">
            <a:gsLst>
              <a:gs pos="0">
                <a:srgbClr val="ddebcf"/>
              </a:gs>
              <a:gs pos="100000">
                <a:srgbClr val="156b13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80880" y="1676520"/>
            <a:ext cx="1981440" cy="11430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95680" y="1676520"/>
            <a:ext cx="2362320" cy="175248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80880" y="2819520"/>
            <a:ext cx="1981440" cy="32763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66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362320" y="2819520"/>
            <a:ext cx="2133360" cy="3276360"/>
          </a:xfrm>
          <a:prstGeom prst="rect">
            <a:avLst/>
          </a:prstGeom>
          <a:gradFill rotWithShape="0">
            <a:gsLst>
              <a:gs pos="0">
                <a:srgbClr val="752424">
                  <a:alpha val="0"/>
                </a:srgbClr>
              </a:gs>
              <a:gs pos="100000">
                <a:srgbClr val="ff5050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4114800"/>
            <a:ext cx="1447920" cy="380880"/>
          </a:xfrm>
          <a:prstGeom prst="rect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09480" y="2286000"/>
            <a:ext cx="1447920" cy="45720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veprete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5029200"/>
            <a:ext cx="1447920" cy="380880"/>
          </a:xfrm>
          <a:prstGeom prst="rect">
            <a:avLst/>
          </a:pr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lig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609480" y="4572000"/>
            <a:ext cx="1447920" cy="38088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lphon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609480" y="2971800"/>
            <a:ext cx="1447920" cy="3808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a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9480" y="5486400"/>
            <a:ext cx="1447920" cy="38088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t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36232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514600" y="3733920"/>
            <a:ext cx="144792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3352680"/>
            <a:ext cx="137160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19520" y="1828800"/>
            <a:ext cx="1218960" cy="685800"/>
          </a:xfrm>
          <a:prstGeom prst="rect">
            <a:avLst/>
          </a:prstGeom>
          <a:gradFill rotWithShape="0">
            <a:gsLst>
              <a:gs pos="0">
                <a:srgbClr val="ccccff"/>
              </a:gs>
              <a:gs pos="100000">
                <a:srgbClr val="cc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vede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743200"/>
            <a:ext cx="11430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2819520" y="2895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2819520" y="365760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ntrol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819520" y="4419720"/>
            <a:ext cx="1218960" cy="83808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Initializ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819520" y="5181480"/>
            <a:ext cx="1218960" cy="838440"/>
          </a:xfrm>
          <a:prstGeom prst="rect">
            <a:avLst/>
          </a:prstGeom>
          <a:solidFill>
            <a:srgbClr val="ff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Process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3429000" y="2514240"/>
            <a:ext cx="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495680" y="1676520"/>
            <a:ext cx="0" cy="4419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6858000" y="1752480"/>
            <a:ext cx="0" cy="441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2057040" y="2133720"/>
            <a:ext cx="76212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H="1" flipV="1">
            <a:off x="2057040" y="1828440"/>
            <a:ext cx="762120" cy="30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609480" y="1752480"/>
            <a:ext cx="1447920" cy="4788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User Defin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648320" y="1752480"/>
            <a:ext cx="1981080" cy="7621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ast Single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4648320" y="2666880"/>
            <a:ext cx="1981080" cy="6858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ulti Stre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95680" y="3505320"/>
            <a:ext cx="2362320" cy="2590560"/>
          </a:xfrm>
          <a:prstGeom prst="rect">
            <a:avLst/>
          </a:prstGeom>
          <a:gradFill rotWithShape="0">
            <a:gsLst>
              <a:gs pos="0">
                <a:srgbClr val="ffffff">
                  <a:alpha val="0"/>
                </a:srgbClr>
              </a:gs>
              <a:gs pos="100000">
                <a:srgbClr val="0099ff">
                  <a:alpha val="41176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572000" y="3581280"/>
            <a:ext cx="2133720" cy="6098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SG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4572000" y="426708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lat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4038480" y="2971800"/>
            <a:ext cx="4572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038480" y="3276360"/>
            <a:ext cx="45720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6858000" y="1676520"/>
            <a:ext cx="2133720" cy="4419360"/>
          </a:xfrm>
          <a:prstGeom prst="rect">
            <a:avLst/>
          </a:prstGeom>
          <a:gradFill rotWithShape="0">
            <a:gsLst>
              <a:gs pos="0">
                <a:srgbClr val="2f752f">
                  <a:alpha val="0"/>
                </a:srgbClr>
              </a:gs>
              <a:gs pos="100000">
                <a:srgbClr val="66ff66">
                  <a:alpha val="42352"/>
                </a:srgbClr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315200" y="18288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iction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315200" y="24382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315200" y="3048120"/>
            <a:ext cx="1523880" cy="53316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7315200" y="3657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AM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7315200" y="4267080"/>
            <a:ext cx="1523880" cy="45720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Utility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315200" y="480060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H="1">
            <a:off x="403848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H="1">
            <a:off x="4038480" y="2971800"/>
            <a:ext cx="45720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209680" y="3429000"/>
            <a:ext cx="457200" cy="167652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6705720" y="2819520"/>
            <a:ext cx="457200" cy="1676160"/>
          </a:xfrm>
          <a:prstGeom prst="leftArrow">
            <a:avLst>
              <a:gd name="adj1" fmla="val 50000"/>
              <a:gd name="adj2" fmla="val 25000"/>
            </a:avLst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315200" y="5410080"/>
            <a:ext cx="1523880" cy="533520"/>
          </a:xfrm>
          <a:prstGeom prst="rect">
            <a:avLst/>
          </a:prstGeom>
          <a:solidFill>
            <a:srgbClr val="99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Miscell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Librar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09480" y="3429000"/>
            <a:ext cx="1447920" cy="609480"/>
          </a:xfrm>
          <a:prstGeom prst="rect">
            <a:avLst/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c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(anytopo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0" y="5029200"/>
            <a:ext cx="2133720" cy="6858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Tree Lexicon 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paration of Mechanism and Implemen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609480" y="1905120"/>
            <a:ext cx="228600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Mechanis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048120" y="1677960"/>
            <a:ext cx="5715000" cy="1631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A class provides Atomic Search Operations (ASOs) in the form of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nfigured by just setting function poin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 A single interface for application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52280" y="36576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04920" y="38098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57200" y="3962520"/>
            <a:ext cx="2819520" cy="121896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09480" y="4114800"/>
            <a:ext cx="281952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 (srch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762120" y="4267080"/>
            <a:ext cx="2819160" cy="1219320"/>
          </a:xfrm>
          <a:prstGeom prst="rect">
            <a:avLst/>
          </a:prstGeom>
          <a:solidFill>
            <a:srgbClr val="00e4a8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arch Implemen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odu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(srch_????.c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657600" y="4038480"/>
            <a:ext cx="5181480" cy="2606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Could have many of the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ossibiliti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A, Decoding with different implementat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B, Concept of search including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alignment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phoneme recogn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-keyword spotting.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33840" y="3276720"/>
            <a:ext cx="4114800" cy="2133360"/>
          </a:xfrm>
          <a:prstGeom prst="rec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90440" y="2666880"/>
            <a:ext cx="8763120" cy="3429000"/>
          </a:xfrm>
          <a:prstGeom prst="rect">
            <a:avLst/>
          </a:prstGeom>
          <a:gradFill rotWithShape="0">
            <a:gsLst>
              <a:gs pos="0">
                <a:srgbClr val="5e9eff"/>
              </a:gs>
              <a:gs pos="100000">
                <a:srgbClr val="ffebfa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Mechanism Module – What does it do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793800" y="1904760"/>
            <a:ext cx="7556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utation of One Fra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9" name=""/>
          <p:cNvSpPr/>
          <p:nvPr/>
        </p:nvSpPr>
        <p:spPr>
          <a:xfrm>
            <a:off x="723960" y="2971800"/>
            <a:ext cx="106668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l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enon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23960" y="4572000"/>
            <a:ext cx="1066680" cy="137304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pprox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I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095560" y="3581280"/>
            <a:ext cx="106668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 senon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4671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Comp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Det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M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S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CD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76244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Phone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6058080" y="3581280"/>
            <a:ext cx="1143000" cy="13716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Rescor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At w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End us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High-Lev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e.g. L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581960" y="3581280"/>
            <a:ext cx="914400" cy="1373400"/>
          </a:xfrm>
          <a:prstGeom prst="rec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Propag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Grap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(Word-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  <a:ea typeface="PMingLiU"/>
              </a:rPr>
              <a:t>Leve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790640" y="3581280"/>
            <a:ext cx="3049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V="1">
            <a:off x="1790640" y="4571640"/>
            <a:ext cx="3049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6224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381560" y="426708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5676840" y="4267080"/>
            <a:ext cx="3812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7201080" y="4267080"/>
            <a:ext cx="3808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496360" y="4267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8724960" y="2819160"/>
            <a:ext cx="0" cy="14475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266400" y="2819520"/>
            <a:ext cx="8458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266760" y="2819520"/>
            <a:ext cx="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66760" y="3581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533840" y="3352680"/>
            <a:ext cx="4038840" cy="190512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872960" y="5410080"/>
            <a:ext cx="3241800" cy="28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arch For One Fram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419040" y="2819520"/>
            <a:ext cx="2819520" cy="320040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019240" y="5334120"/>
            <a:ext cx="1103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69800" indent="-469800"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Compu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</a:t>
            </a:r>
            <a:r>
              <a:rPr b="0" lang="en-US" sz="4400" spc="-1" strike="noStrike" u="sng">
                <a:solidFill>
                  <a:srgbClr val="333399"/>
                </a:solidFill>
                <a:uFillTx/>
                <a:latin typeface="Tahoma"/>
              </a:rPr>
              <a:t>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(-op_mode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Grammar Search (Mode 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t Lexicon Search (Mode 3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ee Search (Mode 4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t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igner (Mode 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oneme recognition (Mode 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new tree search (Mode 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fferent ways to implement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arch implementation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, Use default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st specify all atomic search operations (ASOs)  provi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, Override “search_one_frame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need to specify GMM computation and how to “search_one_frame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469800" indent="-469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, Override the whole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people who dislike the default so mu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907920" indent="-436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verride how to “search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you want to leave now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1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981080" y="2209680"/>
            <a:ext cx="914400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800" spc="-1" strike="noStrike">
                <a:solidFill>
                  <a:srgbClr val="000000"/>
                </a:solidFill>
                <a:latin typeface="Rockwell"/>
              </a:rPr>
              <a:t>Sphinx 3.6 Rocks!</a:t>
            </a: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  <a:p>
            <a:pPr marL="281160" indent="0">
              <a:lnSpc>
                <a:spcPct val="100000"/>
              </a:lnSpc>
              <a:spcBef>
                <a:spcPts val="22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sequence of Re-factor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ing decod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use flat-lexicon decoding as we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_anytopo still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ackward compat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code_anytopo = de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phone, align, decode_anytopo could use fast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de could use S3’s SCHM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and-line is now synchron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ummary on the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gentle re-factoring has carried out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more flexible archite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better playground for AM and search peo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2 SCHMM computation routine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N, SVM, ML techniques for AM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of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in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rther work on Context-Independent Senone-based GMM Selection (CIGMM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0-30% Speed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tricks were propo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xed amount of CD senone comput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of best Gaussian inde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ightening factor of CI-phone b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blished in “On Improvements of CI-based GMM Selection “ (Chan 2005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Wingdings"/>
                <a:ea typeface="Wingdings"/>
              </a:rPr>
              <a:t>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t not very well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right, there are accuracy l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 note on Sphinx 3.6 Speed Performanc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works under 1xRT in most tasks. E.g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rtnote/Sphinx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roadcast News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UNTUN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RESULT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1.5x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is still slower than Sphinx 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2: use 256 codeword SCHM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tup of Sphinx 3: use 2000-6000 senone FCHM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storical notes: Comparable SCHMM setup has 4096 codew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benchmarking to truly ju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 - 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is in a reasonabl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2 should still be used in speed-critical condi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rth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LE/CALO will still be around in 3.6/3.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become more motivated tha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During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Immediate Probl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help us more in accurac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oustic modeling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arch Improvement 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aker adaptation techniques are shown to be cruci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ven in tough task (e.g. CALO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-15% relative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in similar to LM/AM modeling 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Accuracy Improvement of Sphinx 3.6 – Speaker Adaptation (cont.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ave has done a great job 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-class MLL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P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to watc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iad’s VTLN implemen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ere is another one……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ake home message 2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"/>
          <p:cNvSpPr/>
          <p:nvPr/>
        </p:nvSpPr>
        <p:spPr>
          <a:xfrm>
            <a:off x="1447920" y="2438280"/>
            <a:ext cx="693396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We need Better Acoustic Models</a:t>
            </a:r>
            <a:r>
              <a:rPr b="0" lang="en-US" sz="6000" spc="-1" strike="noStrike">
                <a:solidFill>
                  <a:srgbClr val="000000"/>
                </a:solidFill>
                <a:latin typeface="Rockwell"/>
              </a:rPr>
              <a:t>.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in 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bservation in 3.6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Speaker adaptation is very important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at we still need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likelihood linear transformation (MLL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bination of MLLT, MLLR, MAP and 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ed to be additiv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of Sphinx 3.6 - 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Attempts in Flat Lexicon Deco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phon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.5% rel. gai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100xRT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tri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ill give another 5-10 times slowdow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 between Tree vs Flat Lex. Decode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% rela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Further improvement in search is lim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Improvement in Sphinx 3.6 -Modeling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l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 addition of data (Major contribu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polation of LM (very decent gai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ngs to watch: Yi’s LD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et to expl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ive Training (SA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mi-tied Covariance (STC) Matri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ahoma"/>
              </a:rPr>
              <a:t>Conclus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widely used in Sphinx (Bad sign)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of Accuracy Improvement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6 has a healthy development in 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ment in search is ha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10x effort on acoustic model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modity techniques are still not the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final keywords: MLLT, SAT, 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Adaptation &gt; AM, LM &gt; 2 stage Search &gt;&gt;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1" lang="en-US" sz="24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S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ther Extensions </a:t>
            </a: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in Sphinx 3.6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SG search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.6 supports FSG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dapted from Sphinx 2’s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Iss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lextree implementation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tatic allocation of all HMMs; not allocated “on demand”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FSG transitions represented by NxN matrix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ther wish li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histogram pruning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state-based implement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 more te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fidence Anno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apted from Rong with permi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ute Word Posterior Probability of a word given latt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till under wor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anguage Model Related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Now fully suppor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ext-based LM re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-conversion of LM in TXT &amp; DMP forma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m_convert = lm3g2dmp++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 switching API in live_decode_AP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ocumentation/Tutoria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collection of documentation of using Sphinx 3, SphinxTrain and CMU LM Tool ki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 Draft is comple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chapter are filled with information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riting the 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Draf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ief Editor”: Arthur Ch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Tahoma"/>
              </a:rPr>
              <a:t>Does it even exist?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~37 pages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verview (6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ter Software Architecture (9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d of Sphinx 3.6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Improvement (7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alities Improvement (3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cumentation (4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&gt;6) and Conclusion (~5 pag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cussion (10 mins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ok Reviews of Hieroglyph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You wrote the worst preface I have ever seen in my life. “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content is o. k., but the writing is still ……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Prof. Alex I. Rudnick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w, it is thick.  And, oh…… there are no blank spaces!  You are not supposed to add contents in any CMU open source manuals,  don’t you know?” </a:t>
            </a:r>
            <a:r>
              <a:rPr b="1" i="1" lang="en-US" sz="2800" spc="-1" strike="noStrike">
                <a:solidFill>
                  <a:srgbClr val="000000"/>
                </a:solidFill>
                <a:latin typeface="Tahoma"/>
              </a:rPr>
              <a:t>Dr. Alan W. Bl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Documen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 Tutorial (Aka Sphinx 101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anks to Evand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could be used f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chive_s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cs.cmu.edu/~robust/Tutoria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xygen documentation for Sphinx 3.x is fully avail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http://www.speech.cs.cmu.edu/sphinx/sphinx3/doxygen/html/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Sphinx 3.X (X&gt;6) and Conclusion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important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Keep the current design priorities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Accuracy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just OK and we badly need to improv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e are OK and it doesn’t hurt to improv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Functionalit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a pain to use Sphinx 3 but it is constant improv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ability eventually implies distributing model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uracy should be prior to Spe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excuse in 3.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: In X=7……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GALE/CAL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Clustering/S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ridging SI and S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TL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DA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0.5 x CALO may need further speed improv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BI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secret ideas in GMM compu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oadmap (cont.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MIE, M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with HTK mod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=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.T. + S.A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&gt;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fire Arthur Chan and hire an assistant profess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in Other Languages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838080" y="1905120"/>
            <a:ext cx="8001000" cy="463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ther Possibilities of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[You fill in this part]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e need your help!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Project Manag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Kick/Fix people and Kicked/Fixed by Evandr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Developers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Incorporate state-of-art speech technology into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Fix 1 bug and Generate 5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Maintain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sure integrity of Sphinx code and resourc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become so called the “Grand Janitor of Sphinx”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Teste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: Enable test-based development in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lation: You will learn a lot of Zen-Buddhism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1320" y="243828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Overview of CMU Sphinx 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Our Current Motto </a:t>
            </a:r>
            <a:br>
              <a:rPr sz="4400"/>
            </a:br>
            <a:r>
              <a:rPr b="0" lang="en-US" sz="2800" spc="-1" strike="noStrike">
                <a:solidFill>
                  <a:srgbClr val="333399"/>
                </a:solidFill>
                <a:latin typeface="Tahoma"/>
              </a:rPr>
              <a:t>(Subject to Change)</a:t>
            </a:r>
            <a:endParaRPr b="0" lang="en-US" sz="28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kind of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-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 for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done someth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are making some sense in the system development 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have healthy growth in accurac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t we still need mo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Q &amp; A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ank you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me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ich/Alan: for your constant encourag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ex: for your understanding of Yin/Ya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ng: for contributing the confidence estimation program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o: for reminding me I could die at any time when we were in Lake Arthur -&gt;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s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’s progress sped up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developers: without you, I won’t be the “Grand Janitor”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hinx users: for your capabilities of giving me nightma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ostscript, a word from my frien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n’t ever underestimate yourself…… You never know what a mess you could make.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–</a:t>
            </a:r>
            <a:r>
              <a:rPr b="1" lang="en-US" sz="3200" spc="-1" strike="noStrike">
                <a:solidFill>
                  <a:srgbClr val="000000"/>
                </a:solidFill>
                <a:latin typeface="Tahoma"/>
              </a:rPr>
              <a:t>Dr. Evandro Gouvea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Reserv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s/Cons of Batch Sequential 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flexibili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for individual programmers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No assumption, data structure are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usually optimized for the application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Align and allphone have optimization.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Crafting in individual application has high quality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Great difficulty</a:t>
            </a: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 in maintenance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Most changes need to be carried out for 5-6 times. 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ahoma"/>
              </a:rPr>
              <a:t>Spread disease of </a:t>
            </a:r>
            <a:r>
              <a:rPr b="0" lang="en-US" sz="2200" spc="-1" strike="noStrike" u="sng">
                <a:solidFill>
                  <a:srgbClr val="000000"/>
                </a:solidFill>
                <a:uFillTx/>
                <a:latin typeface="Tahoma"/>
              </a:rPr>
              <a:t>code duplication</a:t>
            </a:r>
            <a:endParaRPr b="0" lang="en-US" sz="2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25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Tahoma"/>
              </a:rPr>
              <a:t>Code with functionality was duplicated multiple times</a:t>
            </a: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 vocabulary speech recognizer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tion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amily of CMU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r</a:t>
            </a:r>
            <a:r>
              <a:rPr b="0" lang="en-US" sz="3200" spc="-1" strike="noStrike" u="sng">
                <a:solidFill>
                  <a:srgbClr val="000000"/>
                </a:solidFill>
                <a:uFillTx/>
                <a:latin typeface="Tahoma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{II – IV}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cketSphinx (by Dave at Oct 200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coustic Model Train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cumen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bust/SphinxTrain Tutori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 Developer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lunteer programmers/researchers who lik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nded by different projec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tivated by different reas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contribution go to the same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base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al : Sustainable development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Developer Meetings are hel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gular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re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decide the way to go in Sphinx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 3.X (X=6)” means “Sphinx 3.6”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vide more functionalities such a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search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.X (X&gt;3) is motivated by Project CALO and GA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6-02-02T06:41:39Z</dcterms:modified>
  <cp:revision>1226</cp:revision>
  <dc:subject/>
  <dc:title>PowerPoint Presentation</dc:title>
</cp:coreProperties>
</file>