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07A9F-80CB-455F-81BB-BFBF5DA78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FF6C6-2EEA-499F-A3E2-8BF53461E7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CA1E5-A008-45BA-98C8-2065C46249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BFC13-B546-4EC7-BEF0-9C61AA898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4D78C-929B-4375-B45B-F7A4B598D6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0DAB26-337A-4F59-8DEE-230765A8D7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9641C8-382A-43B2-88B9-F4F0ADD4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21F16-CB04-446D-9FC6-F7EFE986F3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B5F0A-DB2E-44B3-AAE5-6AACB3D36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A71A7E-4A8B-4EF4-A64B-492090F70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3854C5-A881-40E8-B8B3-D03C8E3F2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2EF-5A37-428B-8CEB-BC53E299B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13B2B-DDB6-491B-AD8B-3758A7E6DA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C7A72-C53A-435B-996A-54FF626D9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F2A4B3-E483-41F6-BDC8-D157859DAC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78BCE0-6E1D-4C70-B44B-C6054D1A5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D13F2C-BAB0-4B05-B49D-FC993AB068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31756-9518-48DD-9A7E-29ED35C543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0C198-E375-4C03-81F5-495AA7B6BE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D1F8-8466-4EEE-9B1B-04E1546B47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214200"/>
            <a:ext cx="7792920" cy="677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5D41F-AA8E-42D8-AD05-8933E15E7B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E2C64-21AC-4D60-AA21-1947DFD200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9885-F024-4E8E-B544-67138FE3F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95799-F1E6-4E94-8A38-B025CBBDB5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1162080" y="6243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657240" y="6243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7041960" y="62434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CCB16-7088-4514-9987-0C1923BD72A8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676160"/>
            <a:ext cx="777240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CF4517-1EDE-40F4-9397-D033D85D3427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software/s3fast.tgz" TargetMode="External"/><Relationship Id="rId2" Type="http://schemas.openxmlformats.org/officeDocument/2006/relationships/hyperlink" Target="http://www.cs.cmu.edu/~archan/software/s3ep.tgz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phinxDev20040624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cs.cmu.edu/~archan/presentation/s3.2.ppt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219320" y="1523880"/>
            <a:ext cx="777240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Progress of Sphinx 3.X,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rom X=4 to X=5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240" y="3885840"/>
            <a:ext cx="662940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y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rthur Cha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ndro Gouve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itao Su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avid Huggins-Dain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Jahanzeb Sherwan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Benchmarking (Communicator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1430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st platform, 2.2G Pentium IV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MU Communicator tas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cabulary size (3k) , perplexity: ~90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tunings were done without sacrificing 5% performance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Batch mode decoder is used. (decode)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2 (tuned w speed-up techniqu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7.8% (0.34xRT) 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 32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4.053% (2.40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results Sphinx 3.X, 64 gaussian-FCGM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11.7% (~3.6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uned Sphinx 3.X 64 gaussian-FCGMM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WER:  12.851% (0.87 xRT), 12.152% (1.17xRT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ng can make it better: Boosting training results : 10.5%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WSJ Task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est platform, 2.2G Pentiu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cabulary Size (5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ndard NVP task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ained by both WSJ0 and WSJ1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2, 14.5% 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, 8 gaussian-FCGM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-tuned 7.3% 1.6xR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uned: 8.29% 0.52x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/Speed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enchmarking (Future Plan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1 : Large variance in GMM computation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verage performance is good, worse case can be disastrou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2 : Tuning requires a black magici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utomatic tuning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3 : Still need to work on larger databases (e.g. WSJ 20k, BN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ining setup need to be dig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sue 4 : Speed up in noisy corpus is tricky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are not satisfactory (20-30% degradation in accuracy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aker Adapt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to support MLLR-based speaker adapta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=Ax+b , estimate A, b in a maximum likelihood fashion (Legetter 94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 functionality of sphinx 3.X + SphinxTra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ow estimation of transformation matrix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ff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nsforming means onli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 only support single regression class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de gives exactly the same results as Sam Joo’s code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fully benchmarked yet, still experiment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anks to Yita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ts of C APIs that provide recognition functional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to Sphinx 2’s style of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eech recognition resource initialization/un-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unctions for Utterance level begin/end/process waveform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Live-mode APIs :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are missing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we lack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M addition and dele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the plan of s3.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ite state machine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rt of plan of s3.X where X=8 or 9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-pointer integration and AP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iad Al Bawab’s model-based class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w as a customized version, s3e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800" spc="-1" strike="noStrike">
                <a:solidFill>
                  <a:srgbClr val="000000"/>
                </a:solidFill>
                <a:latin typeface="Tahoma"/>
              </a:rPr>
              <a:t>Code duplication is the root of many evil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”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tools of s3 are now incorporated into S3.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ign : an align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phone : a phoneme recogniz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tar : lattice to N-bes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g : lattice best-path sear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y thanks to Dr. Carl Quillen of MIT Lincol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rchitecture : Next Ste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code_anytopo will be the nex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ngs we may incorporate someda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-Cambridge LM Toolk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m3g2dmp and cepvie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752480" y="2282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Distribu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al Release -&gt; RC I -&gt; RC II .. -&gt;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one yell during calm-down period of  RC 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n, put a tar ball on Sourceforge web p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every release,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ion have to go through ~10 platforms of compi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announcement usually made at the RC period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page is maintained by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vandro (&lt;-extremely san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igression: Other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versions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de that a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atisfying design goal of the softwa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 slow w/ GMM Compu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software/s3fast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3.5 with end-poin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www.cs.cmu.edu/~archan/software/s3ep.tg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MU Researchers’ code and implementa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ccording to legend, Rita has &gt;10 versions of Sphinx and SphinxTrain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CMU Sphin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1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large vocabulary speech recognizer with high accuracy and speed performance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efinition 2 :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collection of tools and resources that enables developers/researchers to build successful speech recogniz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e Manage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urrent Versions System (CVS) is used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so used in other projects e.g. CALO and Festi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very effective way to tie resource and knowledge togeth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s : Still has a lot of separate versions of code in CMU not in Sphinx’s CVS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lease kindly contact us if you work on something using Sphinx or derived from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nfrastructure of Training</a:t>
            </a: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	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need for persistence and version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line were lost after several years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up will be now available in CVS for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unicator (11.5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SJ 5k NVP (7.3%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CSI Phase 3 Training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r from the state of the ar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re-engineer and do archeolog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ll add more tasks to the arch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ou are welcomed to change the setup if you don’t like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you need to check in what you have don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hinxTrai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hinxTrain is never officially relea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work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phinx3.X (X&gt;=5), corresponding timestamp of SphinxTrain will also be published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nt Prog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on-line hel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ed support fo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ter support in perl scripts for FCHMM (Evandro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lence deletion in Baum-Welch Training (experimental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Hieroglyph: Using Sphinx for building speech recognizer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ject Hieroglyph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 effort to build a set of complete documentation for using Sphinx, SphinxTrain and CMU LM Toolkit fo building speech applications.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rgely based on Evandro, Rita, Ravi, Roni’s docs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ditor”: Arthur Chan &lt;- do a lot of edi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ors: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rthur, David, Evandro, Rita, Ravi, Roni, Yita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An outlin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: Licensing of Sphinx, SphinxTrain and LM Toolki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2: Introduction 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3: Introduction to Speech Recogni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4: Recipe of Building Speech Application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5: Different Software Toolkits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6: Acoustic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7: Language Model Train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8: Search Structure and Speed-up of the Speech recogniz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9: Speaker Adapt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0: Research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11: Development using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: Command Line Information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B: FAQ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ieroglyph: Statu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ill in the drafting sta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 : License and use of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3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r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I : Introduction to Sphinx, SphinxTrain and CMU LM Toolkit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VIII : Search Structure and Speed-up of Sphinx's recognizers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IX: Speaker adaptation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hapter XI: Development using Sphinx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draft, 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endix A.2: Full SphinxTrain Command Line Information 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(1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draft, 2</a:t>
            </a:r>
            <a:r>
              <a:rPr b="1" lang="en-US" sz="1800" spc="-1" strike="noStrike" baseline="30000">
                <a:solidFill>
                  <a:srgbClr val="000000"/>
                </a:solidFill>
                <a:latin typeface="Tahoma"/>
              </a:rPr>
              <a:t>nd</a:t>
            </a:r>
            <a:r>
              <a:rPr b="1" lang="en-US" sz="1800" spc="-1" strike="noStrike">
                <a:solidFill>
                  <a:srgbClr val="000000"/>
                </a:solidFill>
                <a:latin typeface="Tahoma"/>
              </a:rPr>
              <a:t>  Rev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9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ahoma"/>
              </a:rPr>
              <a:t>Writing Quality : Low 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1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raft will be completed ½ year later (hopefull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Developers”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roup of volunteers who maintain and enhance Sphinx and related resour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urrent Memb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thur Chan (Project Manager / Coordinat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Evandro Gouvea (Maintainer / 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avid Huggins-Daines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Yitao Sun (Develope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vi Mosur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ex Rudnicky (Speech Advisor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ll of you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pplication Develop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deling exper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nguist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sers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eam and Organiz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 need help!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ral positions are still available for volunteers: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ject Manager : Enable Development of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kick/fix miscellaneous people (lightly) everyday.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aintainer : Ensure integrity of Sphinx code and resourc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chance for you to understand life more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ster :  Enable test-based development in Sphinx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a good way to increase blood pressure.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ers : Incorporate state-of-art technology into Sphinx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ranslation: deal with legacy code and start to write legacy code yourself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your projects, you can also send us temp people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gular meetings are scheduled biweekly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ough, if we are too busy, we just skip it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Next 6 months: Sphinx 3.6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refined speaker adapt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upport on dynamic LM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re speed-up of the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etter documentation (Complete 1</a:t>
            </a:r>
            <a:r>
              <a:rPr b="0" lang="en-US" sz="3200" spc="-1" strike="noStrike" baseline="30000">
                <a:solidFill>
                  <a:srgbClr val="000000"/>
                </a:solidFill>
                <a:latin typeface="Tahoma"/>
              </a:rPr>
              <a:t>st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Draft of Hieroglyph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fidence measure(?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676160" y="228240"/>
            <a:ext cx="779292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If we still survive and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have a full team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admap of Sphinx 3.X (X&gt;6)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7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oder, Trainer code merg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SG implemen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fidence anno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8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rainer fix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M manipulation sup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=9 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covariance modeling and speaker adapt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eroglyph comple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X&gt;= 10 : To move on, innovation is necessary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rief History of Sphin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detail version can be found at,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phinxDev20040624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7" name=""/>
          <p:cNvSpPr/>
          <p:nvPr/>
        </p:nvSpPr>
        <p:spPr>
          <a:xfrm>
            <a:off x="914400" y="3352680"/>
            <a:ext cx="74674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914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57200" y="3581280"/>
            <a:ext cx="1014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1337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523880" y="358128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200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590920" y="3581280"/>
            <a:ext cx="1295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slow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434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657600" y="3581280"/>
            <a:ext cx="13716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99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I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 fast” 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52880" y="3124080"/>
            <a:ext cx="0" cy="2057400"/>
          </a:xfrm>
          <a:prstGeom prst="line">
            <a:avLst/>
          </a:prstGeom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962520" y="5181480"/>
            <a:ext cx="1981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 become open-sour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1992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181480" y="3581280"/>
            <a:ext cx="160020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1-200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IV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evelopmen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itiate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3.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7086600" y="31240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324480" y="358128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Ju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8077320" y="3124080"/>
            <a:ext cx="0" cy="10670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7315200" y="4191120"/>
            <a:ext cx="1600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2004 Oc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RCI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nd other Research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oal of Sphin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 innovation and development of new speech applica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onscious and correct decision in long term speech recognition researc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Synthesis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igner is important for unit selec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Parsing/Dialog Mode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Sphinx 3.X still has a lot of errors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Phoenix! (Robust Pars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We still need Ravenclaw House! (Dialog Manag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Speech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ood recognizer is the basi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752480" y="152280"/>
            <a:ext cx="779328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st of Research in 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ch Recogni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% WER reduction is usually perceivable to user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.e. roughly translate to 1-2 good algorithmic improve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a well-educated researchers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known techniques usually require ½ year to implement and tes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known techniques will take more time. (1 year per innovation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perienced developers :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1 month to implement known technique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3 months to innovate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refore……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 still makes sense to continuously support on,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ch recogniz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oustic modeling improvement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consolidate, what we were la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, code and project management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-developer environment is strictly essential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, transferal of research to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, acoustic modeling research: discriminative training, speaker adap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Future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CSLP 2004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From Decoding Driven to Detection-Based Paradigms for Automatic Speech Recognition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” by Prof. Chin-Hui Le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ech Recogni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an open problem at 200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le of Speech Recognition in Speech Application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largely unkn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open minds to underst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nclus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’ve done something in 2004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r effort starts to make a differ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 still need to do more in 2005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ing a Sphinx 3.X a backbone of speech application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olidation of the current research and development in Sphin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ek for ways for sustainable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428640"/>
            <a:ext cx="7793280" cy="14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333399"/>
                </a:solidFill>
                <a:latin typeface="Tahoma"/>
              </a:rPr>
              <a:t>Thank you!</a:t>
            </a:r>
            <a:endParaRPr b="0" lang="en-US" sz="72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2946240" y="1803240"/>
            <a:ext cx="3251520" cy="16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hat is Sphinx 3.X?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 extension of Sphinx 3’s recogniz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phinx 3.X (X=5)” means “Sphinx 3.5”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t helps to confuse people more.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rovide functionalities such a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-time speech recogn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aker adapt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rs Application Interfaces (AP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3.X (X&gt;3) is motivated by Project CAL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676160" y="15228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ment History of Sphinx 3.X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2970360" y="2133720"/>
            <a:ext cx="45864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38080" y="2057400"/>
            <a:ext cx="2133720" cy="1608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flat-lexicon recognizer (s3 slow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4114800" y="2057400"/>
            <a:ext cx="2514600" cy="1059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tree-lexicon recognizer (s3 fast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71800" y="2514600"/>
            <a:ext cx="1143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191120" y="3505320"/>
            <a:ext cx="297180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3 -w live-mode dem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4419720" y="4267080"/>
            <a:ext cx="3886200" cy="120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4 -fast GMM computa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upport class-based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ome support for dynamic L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181480" y="31240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791320" y="388620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4343400"/>
            <a:ext cx="2895480" cy="1751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3.5 –some support on speaker adap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live mode AP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-Sphinx 3 and Sphinx 3.X code mer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905120" y="34290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 flipH="1">
            <a:off x="3352680" y="487692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general summary of what’s going on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ss technical than 3.4 tal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lks were so confused by jargons in speech recognition’s black magic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for code development, less for acoustic mode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eason: I have not much time to do both </a:t>
            </a:r>
            <a:r>
              <a:rPr b="0" lang="en-U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Incorrect version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wn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(“Kindly” corrected by Prof. Alan Black):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We need to adopt the latest technology to clone 2 to 3 Arthur Chan(s) for the CALO project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.” –Prof. Alex Rudnicky, in one CALO meeting in 2004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re on a project point of view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ech recognition software easily shows phenomena described in “</a:t>
            </a:r>
            <a:r>
              <a:rPr b="0" i="1" lang="en-US" sz="1800" spc="-1" strike="noStrike">
                <a:solidFill>
                  <a:srgbClr val="000000"/>
                </a:solidFill>
                <a:latin typeface="Tahoma"/>
              </a:rPr>
              <a:t>Mythical Man-Month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”.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is talk (outline)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3.X, The recognizer (From X=4 to X=5)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ccuracy and Speed (5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aker Adaptation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pplication Interfaces (APIs)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Architecture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hinx as a collection of resources (~10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ode distribution and management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frastructure of Training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hinxTrain: tools of training acoustic models.  (1 page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Documentation (3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eam and Organization (2 pages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velopment plan for Sphinx 3.X (X &gt;= 6) (2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lationship between speech recognition and other speech researches. (4 pag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ccuracy and 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y Sphinx 3.X ? Why not Sphinx 2?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e to the limitation of computation in 90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2 only support restricted version of semi-continuous HMM (S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supports fully continuous HMM (FCHMM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uracy improvement is around relative 30%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You will see benchmarking results two slides la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3.X is still slower than S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t in many tasks, it seems to becomes reasonable to use it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YOU CAN FIND THE RESULTS FEWS SLID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150560" y="214200"/>
            <a:ext cx="7792920" cy="146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peed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656480" cy="461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Search techniques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xical tree search 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terbi beam tuning and Histogram beam Pruning(s3.2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vi’s talk 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cs.cmu.edu/~archan/presentation/s3.2.pp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honeme look-ahead (s3.4 by Jahanze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st GMM computation techniques (s3.4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ing the measurement in the literature, that mea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75%-90% of GMM computation reduction with fast GMM computation + pruning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&lt;10% relative degradation can usually be achieved in clean database.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urther Detail: “Four-Layer Categorization Scheme of Fast GMM Computation Techniques“ A. Chan et al.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25760" cy="81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rthur Chan</cp:lastModifiedBy>
  <dcterms:modified xsi:type="dcterms:W3CDTF">2004-10-22T00:47:27Z</dcterms:modified>
  <cp:revision>641</cp:revision>
  <dc:subject/>
  <dc:title>PowerPoint Presentation</dc:title>
</cp:coreProperties>
</file>