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</p:sldIdLst>
  <p:sldSz cx="9144000" cy="6858000"/>
  <p:notesSz cx="6869113" cy="93202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09B44-F867-4769-BC61-34A4E7055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90FAF-3834-405D-B892-4FBA999EA4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F538-09AE-4BEC-B020-F8CD103A2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16584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102720" y="106632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2860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16584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102720" y="3852360"/>
            <a:ext cx="279684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1826A-D4C1-4CF4-A3CA-EE4F70208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72FF4-8C13-4E31-9F26-1080F2E83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46CF-D165-4E23-8352-3F25E6D61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9ACC6-7D03-43C8-BC55-3F0318B4C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D95ED-799E-4910-B34E-AD7CCEDAE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266400"/>
            <a:ext cx="8686800" cy="300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8EFA2-FD42-4760-A793-3B9EDBFC6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601E0-7C6D-4D65-85EB-2969CD827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80000" y="385236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B7807-198B-46DE-974A-8C6898912B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80000" y="1066320"/>
            <a:ext cx="42390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28600" y="3852360"/>
            <a:ext cx="8686800" cy="254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5A967-DDE5-45EC-9B45-B45E1E7FD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914400"/>
            <a:ext cx="8686800" cy="0"/>
          </a:xfrm>
          <a:prstGeom prst="line">
            <a:avLst/>
          </a:prstGeom>
          <a:ln w="507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428840" indent="-228600">
              <a:spcBef>
                <a:spcPts val="601"/>
              </a:spcBef>
              <a:buClr>
                <a:srgbClr val="ff3300"/>
              </a:buClr>
              <a:buSzPct val="63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4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5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6" marL="1771560" indent="-22860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228240" y="6477120"/>
            <a:ext cx="106668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19 Nov 199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1447560" y="6477120"/>
            <a:ext cx="61722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ffffff"/>
                </a:solidFill>
                <a:latin typeface="Times New Roman"/>
              </a:rPr>
              <a:t>Sphinx Speech Group, CMU-SCS (rkm@cs.cmu.edu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772040" y="6477120"/>
            <a:ext cx="114300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#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09480" y="12952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to 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2767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ur Ravishanka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chool of Computer Science, CMU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v 19, 1999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762120" y="2438280"/>
            <a:ext cx="7619760" cy="0"/>
          </a:xfrm>
          <a:prstGeom prst="line">
            <a:avLst/>
          </a:prstGeom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Summary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Instantaneous 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how well a given HMM state matches the speech input at a given time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 sequence of HMM states traversed during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Path-scor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Product of instantaneous scores and state transition probabilities corresponding to a given pat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Viterbi search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 An efficient lattice structure and algorithm for computing the best path score for a given segment of input spee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ingle Word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all words in paralle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itialize start state of every word with path-score 1.0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or each frame of input speech: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Update path scores within each HMM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Propagate exit state score from one HMM to initial state of its successor (using Viterbi criterio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lect word with best exit state path-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74" name=""/>
          <p:cNvGrpSpPr/>
          <p:nvPr/>
        </p:nvGrpSpPr>
        <p:grpSpPr>
          <a:xfrm>
            <a:off x="1676520" y="3886200"/>
            <a:ext cx="4724280" cy="1981080"/>
            <a:chOff x="1676520" y="3886200"/>
            <a:chExt cx="4724280" cy="1981080"/>
          </a:xfrm>
        </p:grpSpPr>
        <p:sp>
          <p:nvSpPr>
            <p:cNvPr id="375" name=""/>
            <p:cNvSpPr/>
            <p:nvPr/>
          </p:nvSpPr>
          <p:spPr>
            <a:xfrm>
              <a:off x="441972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1981080" y="396252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1905120" y="47242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676520" y="548640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352680" y="48769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2895480" y="4648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41972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352680" y="41148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289548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5943600" y="38862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76920" y="41148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41972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289548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943600" y="5410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tinuous Speech Recogni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 null transitions from word ends to beginning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pply Viterbi search algorithm to the modified network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How to recover the recognized word sequence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393" name=""/>
          <p:cNvGrpSpPr/>
          <p:nvPr/>
        </p:nvGrpSpPr>
        <p:grpSpPr>
          <a:xfrm>
            <a:off x="1676520" y="1752480"/>
            <a:ext cx="5562360" cy="2590560"/>
            <a:chOff x="1676520" y="1752480"/>
            <a:chExt cx="5562360" cy="2590560"/>
          </a:xfrm>
        </p:grpSpPr>
        <p:sp>
          <p:nvSpPr>
            <p:cNvPr id="394" name=""/>
            <p:cNvSpPr/>
            <p:nvPr/>
          </p:nvSpPr>
          <p:spPr>
            <a:xfrm>
              <a:off x="502920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981080" y="182844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905120" y="28954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676520" y="3962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962520" y="30477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505320" y="28191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50292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9625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5053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5530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548640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502920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6252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50532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553080" y="388584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5486400" y="411444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10" name=""/>
            <p:cNvCxnSpPr>
              <a:stCxn id="394" idx="6"/>
              <a:endCxn id="399" idx="2"/>
            </p:cNvCxnSpPr>
            <p:nvPr/>
          </p:nvCxnSpPr>
          <p:spPr>
            <a:xfrm flipH="1">
              <a:off x="3504600" y="3047760"/>
              <a:ext cx="1981800" cy="2160"/>
            </a:xfrm>
            <a:prstGeom prst="curvedConnector5">
              <a:avLst>
                <a:gd name="adj1" fmla="val -11518"/>
                <a:gd name="adj2" fmla="val -14400000"/>
                <a:gd name="adj3" fmla="val -11518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1" name=""/>
            <p:cNvCxnSpPr>
              <a:stCxn id="403" idx="6"/>
              <a:endCxn id="399" idx="2"/>
            </p:cNvCxnSpPr>
            <p:nvPr/>
          </p:nvCxnSpPr>
          <p:spPr>
            <a:xfrm flipH="1">
              <a:off x="3504960" y="1980720"/>
              <a:ext cx="3505680" cy="1067400"/>
            </a:xfrm>
            <a:prstGeom prst="curvedConnector5">
              <a:avLst>
                <a:gd name="adj1" fmla="val -6521"/>
                <a:gd name="adj2" fmla="val 22064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12" name=""/>
            <p:cNvCxnSpPr>
              <a:stCxn id="408" idx="6"/>
              <a:endCxn id="399" idx="2"/>
            </p:cNvCxnSpPr>
            <p:nvPr/>
          </p:nvCxnSpPr>
          <p:spPr>
            <a:xfrm flipH="1" flipV="1">
              <a:off x="3504960" y="3047040"/>
              <a:ext cx="3505680" cy="1067400"/>
            </a:xfrm>
            <a:prstGeom prst="curvedConnector5">
              <a:avLst>
                <a:gd name="adj1" fmla="val -6521"/>
                <a:gd name="adj2" fmla="val 25000"/>
                <a:gd name="adj3" fmla="val -6521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ach word exit recorded in the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pon transitioning from an exited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to another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ject pointer to BP table entry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into start state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  (This identifies the predecessor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opagate these pointers along with path-scores during Viterbi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t end of utterance, identify best exited word and trace back using predecessor pointe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415" name=""/>
          <p:cNvGrpSpPr/>
          <p:nvPr/>
        </p:nvGrpSpPr>
        <p:grpSpPr>
          <a:xfrm>
            <a:off x="762120" y="1676520"/>
            <a:ext cx="7543800" cy="1829520"/>
            <a:chOff x="762120" y="1676520"/>
            <a:chExt cx="7543800" cy="1829520"/>
          </a:xfrm>
        </p:grpSpPr>
        <p:sp>
          <p:nvSpPr>
            <p:cNvPr id="416" name=""/>
            <p:cNvSpPr/>
            <p:nvPr/>
          </p:nvSpPr>
          <p:spPr>
            <a:xfrm>
              <a:off x="762120" y="1676520"/>
              <a:ext cx="75438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98108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286000" y="1676520"/>
              <a:ext cx="0" cy="3045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600200" y="2286000"/>
              <a:ext cx="1066680" cy="121932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00200" y="25909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1600200" y="28954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1600200" y="320040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133720" y="1828800"/>
              <a:ext cx="0" cy="4572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657600" y="2589120"/>
              <a:ext cx="2438280" cy="914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657600" y="2589120"/>
              <a:ext cx="2438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ord ID                Path Score Predecessor BP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581280" y="2209680"/>
              <a:ext cx="16765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 table entr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 flipV="1">
              <a:off x="2666880" y="2590920"/>
              <a:ext cx="990720" cy="3045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666880" y="3200400"/>
              <a:ext cx="990720" cy="304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The Backpointer Tabl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ome additional information available from BP ta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ll candidate words recognized during recogni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segmen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density”: No. of competing word hypotheses at any instan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ful for postprocessing step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attice rescor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-best list gener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onfidence measu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228600" y="22824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eam Search (Pruning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haustive search over large vocabulary too expensive, and unnecessar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beam” to “prune” the set of active HM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start of each frame, find best available path-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a scale-fact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 (&lt;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1.0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) to set a pruning threshol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*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f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eactivate an HMM if </a:t>
            </a:r>
            <a:r>
              <a:rPr b="1" lang="en-US" sz="2000" spc="-1" strike="noStrike" u="sng">
                <a:solidFill>
                  <a:srgbClr val="ffffff"/>
                </a:solidFill>
                <a:uFillTx/>
                <a:latin typeface="Arial"/>
              </a:rPr>
              <a:t>no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state in it has path score &gt;=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: No. of active HMMs larger if no clear frontrunner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kinds of bea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active set of HM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active HMMs per frame typically 10-20% of total spac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o control word exits taken (and recorded in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No. of words exited typically 10-20 per fram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accuracy essentially unaffect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Incorporating a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s essential for recognition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word error rate by an order of magnitud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duce active search space significantl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mplementation: associate LM probabilities with transitions between words.  E.g.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5" name=""/>
          <p:cNvGrpSpPr/>
          <p:nvPr/>
        </p:nvGrpSpPr>
        <p:grpSpPr>
          <a:xfrm>
            <a:off x="1066680" y="3276720"/>
            <a:ext cx="6934320" cy="2590200"/>
            <a:chOff x="1066680" y="3276720"/>
            <a:chExt cx="6934320" cy="2590200"/>
          </a:xfrm>
        </p:grpSpPr>
        <p:sp>
          <p:nvSpPr>
            <p:cNvPr id="436" name=""/>
            <p:cNvSpPr/>
            <p:nvPr/>
          </p:nvSpPr>
          <p:spPr>
            <a:xfrm>
              <a:off x="6400800" y="4952880"/>
              <a:ext cx="1600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hre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400800" y="380988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on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029200" y="435744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(two | two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441972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1371600" y="33526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1295280" y="441936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1066680" y="548604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352680" y="457164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2895480" y="434304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441972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3352680" y="35049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289548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5943600" y="327672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4876920" y="35049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441972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352680" y="56386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289548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5943600" y="5410080"/>
              <a:ext cx="457200" cy="4568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4876920" y="56386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55" name=""/>
            <p:cNvCxnSpPr>
              <a:stCxn id="439" idx="6"/>
              <a:endCxn id="444" idx="2"/>
            </p:cNvCxnSpPr>
            <p:nvPr/>
          </p:nvCxnSpPr>
          <p:spPr>
            <a:xfrm flipH="1">
              <a:off x="2895120" y="4571640"/>
              <a:ext cx="1982160" cy="2160"/>
            </a:xfrm>
            <a:prstGeom prst="curvedConnector5">
              <a:avLst>
                <a:gd name="adj1" fmla="val -11534"/>
                <a:gd name="adj2" fmla="val -14400000"/>
                <a:gd name="adj3" fmla="val -11534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6" name=""/>
            <p:cNvCxnSpPr>
              <a:stCxn id="448" idx="6"/>
              <a:endCxn id="444" idx="2"/>
            </p:cNvCxnSpPr>
            <p:nvPr/>
          </p:nvCxnSpPr>
          <p:spPr>
            <a:xfrm flipH="1">
              <a:off x="2894760" y="3504960"/>
              <a:ext cx="3506040" cy="1067040"/>
            </a:xfrm>
            <a:prstGeom prst="curvedConnector5">
              <a:avLst>
                <a:gd name="adj1" fmla="val -6520"/>
                <a:gd name="adj2" fmla="val 22072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  <p:cxnSp>
          <p:nvCxnSpPr>
            <p:cNvPr id="457" name=""/>
            <p:cNvCxnSpPr>
              <a:stCxn id="453" idx="6"/>
              <a:endCxn id="444" idx="2"/>
            </p:cNvCxnSpPr>
            <p:nvPr/>
          </p:nvCxnSpPr>
          <p:spPr>
            <a:xfrm flipH="1" flipV="1">
              <a:off x="2894760" y="4570920"/>
              <a:ext cx="3506040" cy="1067400"/>
            </a:xfrm>
            <a:prstGeom prst="curvedConnector5">
              <a:avLst>
                <a:gd name="adj1" fmla="val -6520"/>
                <a:gd name="adj2" fmla="val 25000"/>
                <a:gd name="adj3" fmla="val -6520"/>
              </a:avLst>
            </a:prstGeom>
            <a:ln w="12600">
              <a:solidFill>
                <a:srgbClr val="99cc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Bigram Backoff Language Model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wo issues with large vocabulary bigram LM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ith vocabulary siz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ord exits per frame,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V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cross-word transition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igram probabilities very sparse; mostly “backoff” to unigram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ptimize cross-word transitions using “backoff</a:t>
            </a: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”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Viterbi decision at backoff node selects single-best predecessor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60" name=""/>
          <p:cNvGrpSpPr/>
          <p:nvPr/>
        </p:nvGrpSpPr>
        <p:grpSpPr>
          <a:xfrm>
            <a:off x="1066680" y="3733920"/>
            <a:ext cx="6858000" cy="2057400"/>
            <a:chOff x="1066680" y="3733920"/>
            <a:chExt cx="6858000" cy="2057400"/>
          </a:xfrm>
        </p:grpSpPr>
        <p:sp>
          <p:nvSpPr>
            <p:cNvPr id="461" name=""/>
            <p:cNvSpPr/>
            <p:nvPr/>
          </p:nvSpPr>
          <p:spPr>
            <a:xfrm>
              <a:off x="4267080" y="3733920"/>
              <a:ext cx="914400" cy="205740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ico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523880" y="3886200"/>
              <a:ext cx="304920" cy="304920"/>
            </a:xfrm>
            <a:prstGeom prst="ellipse">
              <a:avLst/>
            </a:prstGeom>
            <a:noFill/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2590920" y="449604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523880" y="5105520"/>
              <a:ext cx="304920" cy="304920"/>
            </a:xfrm>
            <a:prstGeom prst="ellipse">
              <a:avLst/>
            </a:prstGeom>
            <a:noFill/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 flipV="1">
              <a:off x="1828800" y="3886200"/>
              <a:ext cx="2438280" cy="15264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1828800" y="4038840"/>
              <a:ext cx="2438280" cy="457200"/>
            </a:xfrm>
            <a:prstGeom prst="line">
              <a:avLst/>
            </a:prstGeom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flipV="1">
              <a:off x="1828800" y="5105160"/>
              <a:ext cx="2438280" cy="15228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1828800" y="5257800"/>
              <a:ext cx="2438280" cy="304920"/>
            </a:xfrm>
            <a:prstGeom prst="line">
              <a:avLst/>
            </a:prstGeom>
            <a:ln w="12600">
              <a:solidFill>
                <a:srgbClr val="00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469" name=""/>
            <p:cNvCxnSpPr>
              <a:stCxn id="462" idx="5"/>
              <a:endCxn id="463" idx="1"/>
            </p:cNvCxnSpPr>
            <p:nvPr/>
          </p:nvCxnSpPr>
          <p:spPr>
            <a:xfrm flipH="1" rot="16200000">
              <a:off x="2012040" y="391788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470" name=""/>
            <p:cNvCxnSpPr>
              <a:stCxn id="464" idx="7"/>
              <a:endCxn id="463" idx="3"/>
            </p:cNvCxnSpPr>
            <p:nvPr/>
          </p:nvCxnSpPr>
          <p:spPr>
            <a:xfrm flipH="1" flipV="1" rot="5400000">
              <a:off x="2012760" y="4527000"/>
              <a:ext cx="394200" cy="851400"/>
            </a:xfrm>
            <a:prstGeom prst="curvedConnector5">
              <a:avLst>
                <a:gd name="adj1" fmla="val 50000"/>
                <a:gd name="adj2" fmla="val 50000"/>
                <a:gd name="adj3" fmla="val 5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471" name=""/>
            <p:cNvSpPr/>
            <p:nvPr/>
          </p:nvSpPr>
          <p:spPr>
            <a:xfrm flipV="1">
              <a:off x="2895480" y="3733920"/>
              <a:ext cx="1371600" cy="9144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2895480" y="4648320"/>
              <a:ext cx="1371600" cy="1143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1066680" y="443412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5257800" y="388620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 flipH="1">
              <a:off x="5257440" y="4191120"/>
              <a:ext cx="152280" cy="3049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5257800" y="51055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 flipH="1">
              <a:off x="5257440" y="5334120"/>
              <a:ext cx="15228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5410080" y="3962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410080" y="510552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’s bigram successor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4267080" y="388620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4267080" y="4496040"/>
              <a:ext cx="914400" cy="0"/>
            </a:xfrm>
            <a:prstGeom prst="line">
              <a:avLst/>
            </a:prstGeom>
            <a:ln w="1260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267080" y="51055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3" name=""/>
            <p:cNvSpPr/>
            <p:nvPr/>
          </p:nvSpPr>
          <p:spPr>
            <a:xfrm>
              <a:off x="4267080" y="5562720"/>
              <a:ext cx="914400" cy="0"/>
            </a:xfrm>
            <a:prstGeom prst="line">
              <a:avLst/>
            </a:prstGeom>
            <a:ln w="12600">
              <a:solidFill>
                <a:srgbClr val="00cc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 Modeling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phinx uses “triphone” or “phoneme-in-context” HMM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ansitions use appropriate exit-model, and inject left-context into entry stat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86" name=""/>
          <p:cNvGrpSpPr/>
          <p:nvPr/>
        </p:nvGrpSpPr>
        <p:grpSpPr>
          <a:xfrm>
            <a:off x="1295280" y="1628640"/>
            <a:ext cx="6400800" cy="3248640"/>
            <a:chOff x="1295280" y="1628640"/>
            <a:chExt cx="6400800" cy="3248640"/>
          </a:xfrm>
        </p:grpSpPr>
        <p:sp>
          <p:nvSpPr>
            <p:cNvPr id="487" name=""/>
            <p:cNvSpPr/>
            <p:nvPr/>
          </p:nvSpPr>
          <p:spPr>
            <a:xfrm>
              <a:off x="5943600" y="239076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943600" y="216216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5943600" y="193356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0" name=""/>
            <p:cNvSpPr/>
            <p:nvPr/>
          </p:nvSpPr>
          <p:spPr>
            <a:xfrm>
              <a:off x="441936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1" name=""/>
            <p:cNvSpPr/>
            <p:nvPr/>
          </p:nvSpPr>
          <p:spPr>
            <a:xfrm>
              <a:off x="1295280" y="17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3352680" y="193356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2895480" y="1704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4876560" y="193356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5943600" y="170496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4114800" y="2133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text- dependent AH 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400800" y="1628640"/>
              <a:ext cx="1295280" cy="2014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eparate N  HMM instances for each possible right contex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1600200" y="307656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3504960" y="307656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0" name=""/>
            <p:cNvCxnSpPr>
              <a:stCxn id="498" idx="1"/>
              <a:endCxn id="498" idx="7"/>
            </p:cNvCxnSpPr>
            <p:nvPr/>
          </p:nvCxnSpPr>
          <p:spPr>
            <a:xfrm flipH="1" rot="16200000">
              <a:off x="1675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1" name=""/>
            <p:cNvSpPr/>
            <p:nvPr/>
          </p:nvSpPr>
          <p:spPr>
            <a:xfrm>
              <a:off x="1752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2" name=""/>
            <p:cNvCxnSpPr>
              <a:stCxn id="498" idx="4"/>
            </p:cNvCxnSpPr>
            <p:nvPr/>
          </p:nvCxnSpPr>
          <p:spPr>
            <a:xfrm flipH="1" rot="16200000">
              <a:off x="2055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3" name=""/>
            <p:cNvSpPr/>
            <p:nvPr/>
          </p:nvSpPr>
          <p:spPr>
            <a:xfrm>
              <a:off x="1981080" y="307656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4" name=""/>
            <p:cNvCxnSpPr>
              <a:stCxn id="503" idx="1"/>
              <a:endCxn id="503" idx="7"/>
            </p:cNvCxnSpPr>
            <p:nvPr/>
          </p:nvCxnSpPr>
          <p:spPr>
            <a:xfrm flipH="1" rot="16200000">
              <a:off x="2056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5" name=""/>
            <p:cNvSpPr/>
            <p:nvPr/>
          </p:nvSpPr>
          <p:spPr>
            <a:xfrm>
              <a:off x="2133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6" name=""/>
            <p:cNvCxnSpPr>
              <a:stCxn id="503" idx="4"/>
            </p:cNvCxnSpPr>
            <p:nvPr/>
          </p:nvCxnSpPr>
          <p:spPr>
            <a:xfrm flipH="1" rot="16200000">
              <a:off x="2437200" y="2848320"/>
              <a:ext cx="252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7" name=""/>
            <p:cNvSpPr/>
            <p:nvPr/>
          </p:nvSpPr>
          <p:spPr>
            <a:xfrm>
              <a:off x="2361960" y="307656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08" name=""/>
            <p:cNvCxnSpPr>
              <a:stCxn id="507" idx="1"/>
              <a:endCxn id="507" idx="7"/>
            </p:cNvCxnSpPr>
            <p:nvPr/>
          </p:nvCxnSpPr>
          <p:spPr>
            <a:xfrm flipH="1" rot="16200000">
              <a:off x="243756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09" name=""/>
            <p:cNvSpPr/>
            <p:nvPr/>
          </p:nvSpPr>
          <p:spPr>
            <a:xfrm>
              <a:off x="2514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0" name=""/>
            <p:cNvCxnSpPr>
              <a:stCxn id="507" idx="4"/>
            </p:cNvCxnSpPr>
            <p:nvPr/>
          </p:nvCxnSpPr>
          <p:spPr>
            <a:xfrm flipH="1" rot="16200000">
              <a:off x="281736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1" name=""/>
            <p:cNvSpPr/>
            <p:nvPr/>
          </p:nvSpPr>
          <p:spPr>
            <a:xfrm>
              <a:off x="274320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2" name=""/>
            <p:cNvCxnSpPr>
              <a:stCxn id="511" idx="1"/>
              <a:endCxn id="511" idx="7"/>
            </p:cNvCxnSpPr>
            <p:nvPr/>
          </p:nvCxnSpPr>
          <p:spPr>
            <a:xfrm flipH="1" rot="16200000">
              <a:off x="281844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3" name=""/>
            <p:cNvSpPr/>
            <p:nvPr/>
          </p:nvSpPr>
          <p:spPr>
            <a:xfrm>
              <a:off x="289548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4" name=""/>
            <p:cNvCxnSpPr>
              <a:stCxn id="511" idx="4"/>
            </p:cNvCxnSpPr>
            <p:nvPr/>
          </p:nvCxnSpPr>
          <p:spPr>
            <a:xfrm flipH="1" rot="16200000">
              <a:off x="3198240" y="2848320"/>
              <a:ext cx="252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5" name=""/>
            <p:cNvSpPr/>
            <p:nvPr/>
          </p:nvSpPr>
          <p:spPr>
            <a:xfrm>
              <a:off x="3124080" y="3076560"/>
              <a:ext cx="152280" cy="15228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16" name=""/>
            <p:cNvCxnSpPr>
              <a:stCxn id="515" idx="1"/>
              <a:endCxn id="515" idx="7"/>
            </p:cNvCxnSpPr>
            <p:nvPr/>
          </p:nvCxnSpPr>
          <p:spPr>
            <a:xfrm flipH="1" rot="16200000">
              <a:off x="3199680" y="3045240"/>
              <a:ext cx="216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517" name=""/>
            <p:cNvSpPr/>
            <p:nvPr/>
          </p:nvSpPr>
          <p:spPr>
            <a:xfrm>
              <a:off x="327636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295280" y="2467080"/>
              <a:ext cx="2514600" cy="121896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1371600" y="3686040"/>
              <a:ext cx="44956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ultiplexed W  HMM; inherited left context propagated along with path-scores, and dynamically modifies the state model (Replication is too expensive)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71600" y="31528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521" name=""/>
            <p:cNvCxnSpPr>
              <a:stCxn id="494" idx="0"/>
              <a:endCxn id="489" idx="2"/>
            </p:cNvCxnSpPr>
            <p:nvPr/>
          </p:nvCxnSpPr>
          <p:spPr>
            <a:xfrm>
              <a:off x="4876560" y="193320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2" name=""/>
            <p:cNvCxnSpPr>
              <a:stCxn id="494" idx="0"/>
              <a:endCxn id="488" idx="2"/>
            </p:cNvCxnSpPr>
            <p:nvPr/>
          </p:nvCxnSpPr>
          <p:spPr>
            <a:xfrm>
              <a:off x="4876560" y="1933560"/>
              <a:ext cx="1067760" cy="4579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3" name=""/>
            <p:cNvCxnSpPr>
              <a:stCxn id="494" idx="0"/>
              <a:endCxn id="487" idx="2"/>
            </p:cNvCxnSpPr>
            <p:nvPr/>
          </p:nvCxnSpPr>
          <p:spPr>
            <a:xfrm>
              <a:off x="4876560" y="1933200"/>
              <a:ext cx="1067760" cy="6865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524" name=""/>
            <p:cNvCxnSpPr>
              <a:stCxn id="493" idx="4"/>
              <a:endCxn id="518" idx="1"/>
            </p:cNvCxnSpPr>
            <p:nvPr/>
          </p:nvCxnSpPr>
          <p:spPr>
            <a:xfrm flipH="1">
              <a:off x="1662840" y="2161800"/>
              <a:ext cx="1461240" cy="4834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</a:ln>
          </p:spPr>
        </p:cxnSp>
        <p:sp>
          <p:nvSpPr>
            <p:cNvPr id="525" name=""/>
            <p:cNvSpPr/>
            <p:nvPr/>
          </p:nvSpPr>
          <p:spPr>
            <a:xfrm>
              <a:off x="3124080" y="2133720"/>
              <a:ext cx="609480" cy="76176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Search Algorith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nitialize start state of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with path-score = 1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frame of input speech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evaluate all active HMMs; find best path-score, pruning thresholds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or each active HMM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above pruning threshold {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ctivate HMM for next fram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to and activate successor HMM within word, if an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word-final HMM and above word-pruning threshold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cord word-exit in BP table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from words exited into initial state of entire lexicon (using the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M), and activate HMMs entered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}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find final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lt;/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S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</a:t>
            </a:r>
            <a:r>
              <a:rPr b="1" lang="en-US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BP table entry and back-trace through table to retrieve result;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Outlin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ecognition proble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for the most likely word sequence matching the input speech, given the various model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llustrated using Sphinx-3 (original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search (Sphinx-3.2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ru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peri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clus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Motiv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st active HMMs are word-initial models, decaying rapidly subsequent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n 60K-word Hub-4 task, 55% of active HMMs are word-initi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Same reason for handling left/right contexts differently.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ut, no. of distinct word-initial model </a:t>
            </a: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</a:rPr>
              <a:t>types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much few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se a “prefix-tree” structure to maximize sharing among word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19320" y="3182760"/>
            <a:ext cx="4114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RT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D STARTING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NG STARTED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DX-IX-DD            START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 START-U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-T-AA-R-T-AX-PD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tructure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des shared if triphone “State-Sequence ID” (SSID) identical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(word-final) nodes not share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 60K-word BN task, word-initial models reduced ~50x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3" name=""/>
          <p:cNvGrpSpPr/>
          <p:nvPr/>
        </p:nvGrpSpPr>
        <p:grpSpPr>
          <a:xfrm>
            <a:off x="1447920" y="1295280"/>
            <a:ext cx="7086600" cy="2895480"/>
            <a:chOff x="1447920" y="1295280"/>
            <a:chExt cx="7086600" cy="2895480"/>
          </a:xfrm>
        </p:grpSpPr>
        <p:sp>
          <p:nvSpPr>
            <p:cNvPr id="534" name=""/>
            <p:cNvSpPr/>
            <p:nvPr/>
          </p:nvSpPr>
          <p:spPr>
            <a:xfrm>
              <a:off x="14479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>
              <a:off x="23623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>
              <a:off x="3276720" y="23619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>
              <a:off x="43437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>
              <a:off x="43437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>
              <a:off x="52581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525816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1" name=""/>
            <p:cNvSpPr/>
            <p:nvPr/>
          </p:nvSpPr>
          <p:spPr>
            <a:xfrm>
              <a:off x="525816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61725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61725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19051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2819520" y="25905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 flipV="1">
              <a:off x="3657960" y="1675800"/>
              <a:ext cx="76176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3657960" y="2743200"/>
              <a:ext cx="76176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480096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4724640" y="1676160"/>
              <a:ext cx="60948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48009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1" name=""/>
            <p:cNvSpPr/>
            <p:nvPr/>
          </p:nvSpPr>
          <p:spPr>
            <a:xfrm flipV="1">
              <a:off x="571536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2" name=""/>
            <p:cNvSpPr/>
            <p:nvPr/>
          </p:nvSpPr>
          <p:spPr>
            <a:xfrm>
              <a:off x="571536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7086960" y="19047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6629760" y="213336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708696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662976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617256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708696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7086960" y="373356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0" name=""/>
            <p:cNvSpPr/>
            <p:nvPr/>
          </p:nvSpPr>
          <p:spPr>
            <a:xfrm flipV="1">
              <a:off x="662976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1" name=""/>
            <p:cNvSpPr/>
            <p:nvPr/>
          </p:nvSpPr>
          <p:spPr>
            <a:xfrm>
              <a:off x="662976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571536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3" name=""/>
            <p:cNvSpPr/>
            <p:nvPr/>
          </p:nvSpPr>
          <p:spPr>
            <a:xfrm>
              <a:off x="5715360" y="130968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7544160" y="19191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7544160" y="252864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6" name=""/>
            <p:cNvSpPr/>
            <p:nvPr/>
          </p:nvSpPr>
          <p:spPr>
            <a:xfrm>
              <a:off x="754416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7544160" y="373356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lef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Root nodes replicated for left contex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, nodes shared if SSIDs identica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uring search, very few distinct incoming left-contexts at any time; so only very few copies activa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70" name=""/>
          <p:cNvGrpSpPr/>
          <p:nvPr/>
        </p:nvGrpSpPr>
        <p:grpSpPr>
          <a:xfrm>
            <a:off x="533520" y="1295280"/>
            <a:ext cx="8001000" cy="3049560"/>
            <a:chOff x="533520" y="1295280"/>
            <a:chExt cx="8001000" cy="3049560"/>
          </a:xfrm>
        </p:grpSpPr>
        <p:sp>
          <p:nvSpPr>
            <p:cNvPr id="571" name=""/>
            <p:cNvSpPr/>
            <p:nvPr/>
          </p:nvSpPr>
          <p:spPr>
            <a:xfrm>
              <a:off x="990720" y="12952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838080" y="12952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685800" y="12952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4" name=""/>
            <p:cNvSpPr/>
            <p:nvPr/>
          </p:nvSpPr>
          <p:spPr>
            <a:xfrm>
              <a:off x="1447920" y="327672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5" name=""/>
            <p:cNvSpPr/>
            <p:nvPr/>
          </p:nvSpPr>
          <p:spPr>
            <a:xfrm>
              <a:off x="1447920" y="297180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6" name=""/>
            <p:cNvSpPr/>
            <p:nvPr/>
          </p:nvSpPr>
          <p:spPr>
            <a:xfrm>
              <a:off x="1447920" y="26668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7" name=""/>
            <p:cNvSpPr/>
            <p:nvPr/>
          </p:nvSpPr>
          <p:spPr>
            <a:xfrm>
              <a:off x="1447920" y="236232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8" name=""/>
            <p:cNvSpPr/>
            <p:nvPr/>
          </p:nvSpPr>
          <p:spPr>
            <a:xfrm>
              <a:off x="23623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9" name=""/>
            <p:cNvSpPr/>
            <p:nvPr/>
          </p:nvSpPr>
          <p:spPr>
            <a:xfrm>
              <a:off x="3276720" y="23623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0" name=""/>
            <p:cNvSpPr/>
            <p:nvPr/>
          </p:nvSpPr>
          <p:spPr>
            <a:xfrm>
              <a:off x="43434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43434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52578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5257800" y="12952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257800" y="22096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1722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61722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9051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>
              <a:off x="2819520" y="25909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 flipV="1">
              <a:off x="3657600" y="1676520"/>
              <a:ext cx="762120" cy="7617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>
              <a:off x="3657600" y="2743200"/>
              <a:ext cx="762120" cy="7621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>
              <a:off x="4800600" y="152388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>
              <a:off x="4724280" y="1676520"/>
              <a:ext cx="609840" cy="6094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48006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 flipV="1">
              <a:off x="5715000" y="220932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5715000" y="243828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7086600" y="19051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6629400" y="213372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708660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629400" y="27432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6172200" y="34290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7086600" y="31240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>
              <a:off x="7086600" y="37339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V="1">
              <a:off x="6629400" y="342864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>
              <a:off x="6629400" y="3657600"/>
              <a:ext cx="45720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>
              <a:off x="5715000" y="3657600"/>
              <a:ext cx="457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>
              <a:off x="5715000" y="1309680"/>
              <a:ext cx="762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>
              <a:off x="7543800" y="191916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ing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>
              <a:off x="7543800" y="252900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ed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7543800" y="3124080"/>
              <a:ext cx="914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7543800" y="373392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rt-up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33520" y="1295280"/>
              <a:ext cx="457200" cy="457200"/>
            </a:xfrm>
            <a:prstGeom prst="ellipse">
              <a:avLst/>
            </a:prstGeom>
            <a:solidFill>
              <a:srgbClr val="00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2" name=""/>
            <p:cNvSpPr/>
            <p:nvPr/>
          </p:nvSpPr>
          <p:spPr>
            <a:xfrm>
              <a:off x="1447920" y="1309680"/>
              <a:ext cx="1447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ft-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3" name=""/>
            <p:cNvSpPr/>
            <p:nvPr/>
          </p:nvSpPr>
          <p:spPr>
            <a:xfrm>
              <a:off x="7621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91440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106668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914400" y="2895480"/>
              <a:ext cx="533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1066680" y="3200400"/>
              <a:ext cx="3812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1219320" y="350532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33520" y="3976560"/>
              <a:ext cx="1828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o rest of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1219320" y="1752480"/>
              <a:ext cx="0" cy="22860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762120" y="2590920"/>
              <a:ext cx="6858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1981080" y="3198960"/>
              <a:ext cx="152424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-models for different lef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23" name=""/>
            <p:cNvCxnSpPr>
              <a:stCxn id="576" idx="6"/>
              <a:endCxn id="587" idx="0"/>
            </p:cNvCxnSpPr>
            <p:nvPr/>
          </p:nvCxnSpPr>
          <p:spPr>
            <a:xfrm flipV="1">
              <a:off x="1905120" y="2590560"/>
              <a:ext cx="457920" cy="30528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4" name=""/>
            <p:cNvCxnSpPr>
              <a:stCxn id="575" idx="6"/>
              <a:endCxn id="587" idx="1"/>
            </p:cNvCxnSpPr>
            <p:nvPr/>
          </p:nvCxnSpPr>
          <p:spPr>
            <a:xfrm flipV="1">
              <a:off x="1905120" y="2590200"/>
              <a:ext cx="457920" cy="61020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625" name=""/>
            <p:cNvCxnSpPr>
              <a:stCxn id="574" idx="6"/>
              <a:endCxn id="587" idx="1"/>
            </p:cNvCxnSpPr>
            <p:nvPr/>
          </p:nvCxnSpPr>
          <p:spPr>
            <a:xfrm flipV="1">
              <a:off x="1905120" y="2590560"/>
              <a:ext cx="457920" cy="9151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ross-Word Triphones (right context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af nodes use “composite” SSID model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lextree and backpointer table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mplifies cross-word transitions implemen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28" name=""/>
          <p:cNvGrpSpPr/>
          <p:nvPr/>
        </p:nvGrpSpPr>
        <p:grpSpPr>
          <a:xfrm>
            <a:off x="380880" y="2514600"/>
            <a:ext cx="8534520" cy="3506040"/>
            <a:chOff x="380880" y="2514600"/>
            <a:chExt cx="8534520" cy="3506040"/>
          </a:xfrm>
        </p:grpSpPr>
        <p:sp>
          <p:nvSpPr>
            <p:cNvPr id="629" name=""/>
            <p:cNvSpPr/>
            <p:nvPr/>
          </p:nvSpPr>
          <p:spPr>
            <a:xfrm>
              <a:off x="762120" y="2895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1828800" y="2895480"/>
              <a:ext cx="457200" cy="4572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2438280" y="2895480"/>
              <a:ext cx="457200" cy="45720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3048120" y="2895480"/>
              <a:ext cx="457200" cy="4572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1981080" y="39625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7467480" y="2895480"/>
              <a:ext cx="457200" cy="4572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1905120" y="3886200"/>
              <a:ext cx="30456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25146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312408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388620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80880" y="2529000"/>
              <a:ext cx="1219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af nod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905120" y="2514600"/>
              <a:ext cx="32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iphones for all right context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981080" y="3505320"/>
              <a:ext cx="15264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2" name=""/>
            <p:cNvSpPr/>
            <p:nvPr/>
          </p:nvSpPr>
          <p:spPr>
            <a:xfrm>
              <a:off x="259092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3" name=""/>
            <p:cNvSpPr/>
            <p:nvPr/>
          </p:nvSpPr>
          <p:spPr>
            <a:xfrm>
              <a:off x="3200400" y="3505320"/>
              <a:ext cx="152280" cy="152280"/>
            </a:xfrm>
            <a:prstGeom prst="down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762120" y="5103720"/>
              <a:ext cx="114300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 states for triphon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1371600" y="30481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3581280" y="4052880"/>
              <a:ext cx="9144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que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1981080" y="44197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1981080" y="48769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1981080" y="53341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0" name=""/>
            <p:cNvSpPr/>
            <p:nvPr/>
          </p:nvSpPr>
          <p:spPr>
            <a:xfrm>
              <a:off x="1981080" y="5791320"/>
              <a:ext cx="15264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1" name=""/>
            <p:cNvSpPr/>
            <p:nvPr/>
          </p:nvSpPr>
          <p:spPr>
            <a:xfrm>
              <a:off x="25909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2" name=""/>
            <p:cNvSpPr/>
            <p:nvPr/>
          </p:nvSpPr>
          <p:spPr>
            <a:xfrm>
              <a:off x="25909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3" name=""/>
            <p:cNvSpPr/>
            <p:nvPr/>
          </p:nvSpPr>
          <p:spPr>
            <a:xfrm>
              <a:off x="25909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4" name=""/>
            <p:cNvSpPr/>
            <p:nvPr/>
          </p:nvSpPr>
          <p:spPr>
            <a:xfrm>
              <a:off x="25909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25909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6" name=""/>
            <p:cNvSpPr/>
            <p:nvPr/>
          </p:nvSpPr>
          <p:spPr>
            <a:xfrm>
              <a:off x="32004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7" name=""/>
            <p:cNvSpPr/>
            <p:nvPr/>
          </p:nvSpPr>
          <p:spPr>
            <a:xfrm>
              <a:off x="32004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32004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32004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3200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5720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7200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3" name=""/>
            <p:cNvSpPr/>
            <p:nvPr/>
          </p:nvSpPr>
          <p:spPr>
            <a:xfrm>
              <a:off x="45720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4" name=""/>
            <p:cNvSpPr/>
            <p:nvPr/>
          </p:nvSpPr>
          <p:spPr>
            <a:xfrm>
              <a:off x="45720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5" name=""/>
            <p:cNvSpPr/>
            <p:nvPr/>
          </p:nvSpPr>
          <p:spPr>
            <a:xfrm>
              <a:off x="45720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502920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502920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502920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50292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548640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1" name=""/>
            <p:cNvSpPr/>
            <p:nvPr/>
          </p:nvSpPr>
          <p:spPr>
            <a:xfrm>
              <a:off x="7620120" y="39625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2" name=""/>
            <p:cNvSpPr/>
            <p:nvPr/>
          </p:nvSpPr>
          <p:spPr>
            <a:xfrm>
              <a:off x="7620120" y="44197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7620120" y="48769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7620120" y="53341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5" name=""/>
            <p:cNvSpPr/>
            <p:nvPr/>
          </p:nvSpPr>
          <p:spPr>
            <a:xfrm>
              <a:off x="7620120" y="5791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6324480" y="3962520"/>
              <a:ext cx="304920" cy="152280"/>
            </a:xfrm>
            <a:prstGeom prst="rightArrow">
              <a:avLst>
                <a:gd name="adj1" fmla="val 50000"/>
                <a:gd name="adj2" fmla="val 50059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5791320" y="4038480"/>
              <a:ext cx="137160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tates; average of component state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495680" y="38862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9" name=""/>
            <p:cNvSpPr/>
            <p:nvPr/>
          </p:nvSpPr>
          <p:spPr>
            <a:xfrm>
              <a:off x="4495680" y="48006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0" name=""/>
            <p:cNvSpPr/>
            <p:nvPr/>
          </p:nvSpPr>
          <p:spPr>
            <a:xfrm>
              <a:off x="4495680" y="5257800"/>
              <a:ext cx="7621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495680" y="5715000"/>
              <a:ext cx="12193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1828800" y="3886200"/>
              <a:ext cx="1676520" cy="3049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3" name=""/>
            <p:cNvSpPr/>
            <p:nvPr/>
          </p:nvSpPr>
          <p:spPr>
            <a:xfrm>
              <a:off x="7543800" y="3886200"/>
              <a:ext cx="304920" cy="2133720"/>
            </a:xfrm>
            <a:prstGeom prst="rect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4" name=""/>
            <p:cNvSpPr/>
            <p:nvPr/>
          </p:nvSpPr>
          <p:spPr>
            <a:xfrm>
              <a:off x="7620120" y="3505320"/>
              <a:ext cx="152280" cy="152280"/>
            </a:xfrm>
            <a:prstGeom prst="upArrow">
              <a:avLst>
                <a:gd name="adj1" fmla="val 50000"/>
                <a:gd name="adj2" fmla="val 25000"/>
              </a:avLst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6324480" y="25146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mposite SSID model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Search: LM Integr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oblem: LM probabilities cannot be determined upon transition to lextree root node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oot nodes shared among several unrelated word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veral solutions possibl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remental evaluation, using composite LM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Lextree replication (Ney, Antoniol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escoring at every node (BBN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ost-tree evaluation (Sphinx-II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cremental LM score accumulation; e.g. (bigram LM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rge computation and memory requirement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Overhead for dynamic lextree creation/destruc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M Integration: Lextree Replication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690" name=""/>
          <p:cNvGrpSpPr/>
          <p:nvPr/>
        </p:nvGrpSpPr>
        <p:grpSpPr>
          <a:xfrm>
            <a:off x="1447920" y="1600200"/>
            <a:ext cx="6324480" cy="3354120"/>
            <a:chOff x="1447920" y="1600200"/>
            <a:chExt cx="6324480" cy="3354120"/>
          </a:xfrm>
        </p:grpSpPr>
        <p:sp>
          <p:nvSpPr>
            <p:cNvPr id="691" name=""/>
            <p:cNvSpPr/>
            <p:nvPr/>
          </p:nvSpPr>
          <p:spPr>
            <a:xfrm flipV="1">
              <a:off x="1447920" y="243828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1447920" y="327636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2286000" y="24382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2210040" y="2819160"/>
              <a:ext cx="152280" cy="1526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5" name=""/>
            <p:cNvSpPr/>
            <p:nvPr/>
          </p:nvSpPr>
          <p:spPr>
            <a:xfrm flipV="1">
              <a:off x="3124440" y="1675800"/>
              <a:ext cx="83808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6" name=""/>
            <p:cNvSpPr/>
            <p:nvPr/>
          </p:nvSpPr>
          <p:spPr>
            <a:xfrm>
              <a:off x="3124440" y="2514600"/>
              <a:ext cx="83808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7" name=""/>
            <p:cNvSpPr/>
            <p:nvPr/>
          </p:nvSpPr>
          <p:spPr>
            <a:xfrm>
              <a:off x="3962520" y="167616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698" name=""/>
            <p:cNvCxnSpPr>
              <a:stCxn id="694" idx="6"/>
              <a:endCxn id="696" idx="0"/>
            </p:cNvCxnSpPr>
            <p:nvPr/>
          </p:nvCxnSpPr>
          <p:spPr>
            <a:xfrm flipV="1">
              <a:off x="2361960" y="2514240"/>
              <a:ext cx="762840" cy="38160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699" name=""/>
            <p:cNvSpPr/>
            <p:nvPr/>
          </p:nvSpPr>
          <p:spPr>
            <a:xfrm flipV="1">
              <a:off x="4572000" y="274320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4572000" y="358128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5410440" y="2743200"/>
              <a:ext cx="0" cy="1676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2210040" y="3276360"/>
              <a:ext cx="15228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03" name=""/>
            <p:cNvCxnSpPr>
              <a:stCxn id="702" idx="6"/>
              <a:endCxn id="700" idx="0"/>
            </p:cNvCxnSpPr>
            <p:nvPr/>
          </p:nvCxnSpPr>
          <p:spPr>
            <a:xfrm>
              <a:off x="2362320" y="3352320"/>
              <a:ext cx="221040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04" name=""/>
            <p:cNvSpPr/>
            <p:nvPr/>
          </p:nvSpPr>
          <p:spPr>
            <a:xfrm>
              <a:off x="2286000" y="25146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2286000" y="3352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4953240" y="370188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 flipV="1">
              <a:off x="5105520" y="3625560"/>
              <a:ext cx="30492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5105520" y="3778200"/>
              <a:ext cx="30492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5562720" y="3625560"/>
              <a:ext cx="1522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 flipH="1">
              <a:off x="5562360" y="3778200"/>
              <a:ext cx="152280" cy="1522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5715000" y="3504960"/>
              <a:ext cx="190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= set of words  reachable from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4876920" y="33670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x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5867640" y="458604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</a:t>
              </a:r>
              <a:r>
                <a:rPr b="0" lang="en-US" sz="18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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2743200" y="4357440"/>
              <a:ext cx="502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M probability entering into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x =  Sum 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W | B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86200" y="2514600"/>
              <a:ext cx="15264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3962520" y="22096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17" name=""/>
            <p:cNvCxnSpPr>
              <a:stCxn id="715" idx="5"/>
              <a:endCxn id="700" idx="0"/>
            </p:cNvCxnSpPr>
            <p:nvPr/>
          </p:nvCxnSpPr>
          <p:spPr>
            <a:xfrm>
              <a:off x="4016160" y="2644560"/>
              <a:ext cx="556200" cy="9374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18" name=""/>
            <p:cNvSpPr/>
            <p:nvPr/>
          </p:nvSpPr>
          <p:spPr>
            <a:xfrm>
              <a:off x="3962520" y="16002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4724640" y="17208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5410440" y="26668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6172200" y="278748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676520" y="2057400"/>
              <a:ext cx="990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2438640" y="2178000"/>
              <a:ext cx="2286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6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4" name=""/>
            <p:cNvCxnSpPr>
              <a:stCxn id="700" idx="0"/>
              <a:endCxn id="706" idx="2"/>
            </p:cNvCxnSpPr>
            <p:nvPr/>
          </p:nvCxnSpPr>
          <p:spPr>
            <a:xfrm flipH="1" rot="16200000">
              <a:off x="4663800" y="3488040"/>
              <a:ext cx="197640" cy="381960"/>
            </a:xfrm>
            <a:prstGeom prst="curvedConnector5">
              <a:avLst>
                <a:gd name="adj1" fmla="val 0"/>
                <a:gd name="adj2" fmla="val 28867"/>
                <a:gd name="adj3" fmla="val 0"/>
              </a:avLst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gain, incremental LM score accumulati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till, large computation/memory requirements and overhead for dynamic lextree maintenanc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ultiple LM transitions between some word pair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6" name="PlaceHolder 2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 Copies With Explicit Backoff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727" name=""/>
          <p:cNvGrpSpPr/>
          <p:nvPr/>
        </p:nvGrpSpPr>
        <p:grpSpPr>
          <a:xfrm>
            <a:off x="609480" y="1600200"/>
            <a:ext cx="8153640" cy="2819880"/>
            <a:chOff x="609480" y="1600200"/>
            <a:chExt cx="8153640" cy="2819880"/>
          </a:xfrm>
        </p:grpSpPr>
        <p:sp>
          <p:nvSpPr>
            <p:cNvPr id="728" name=""/>
            <p:cNvSpPr/>
            <p:nvPr/>
          </p:nvSpPr>
          <p:spPr>
            <a:xfrm flipV="1">
              <a:off x="2666880" y="1980720"/>
              <a:ext cx="838440" cy="8384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2666880" y="2819520"/>
              <a:ext cx="838440" cy="8380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3505320" y="1981080"/>
              <a:ext cx="0" cy="1676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3429000" y="2362320"/>
              <a:ext cx="152280" cy="15228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 flipV="1">
              <a:off x="4495680" y="1676160"/>
              <a:ext cx="533520" cy="53316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4495680" y="2209680"/>
              <a:ext cx="53352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5029200" y="1676520"/>
              <a:ext cx="0" cy="106668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35" name=""/>
            <p:cNvCxnSpPr>
              <a:stCxn id="731" idx="6"/>
              <a:endCxn id="733" idx="0"/>
            </p:cNvCxnSpPr>
            <p:nvPr/>
          </p:nvCxnSpPr>
          <p:spPr>
            <a:xfrm flipV="1">
              <a:off x="3581280" y="2208960"/>
              <a:ext cx="915120" cy="2293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36" name=""/>
            <p:cNvSpPr/>
            <p:nvPr/>
          </p:nvSpPr>
          <p:spPr>
            <a:xfrm>
              <a:off x="3429000" y="2819520"/>
              <a:ext cx="152280" cy="15228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3505320" y="2057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3505320" y="289548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2209680" y="1905120"/>
              <a:ext cx="1067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unigram lextree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5029200" y="1600200"/>
              <a:ext cx="266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 flipV="1">
              <a:off x="5562720" y="289548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5562720" y="3429000"/>
              <a:ext cx="533160" cy="53352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6095880" y="2895480"/>
              <a:ext cx="0" cy="10670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6095880" y="2819520"/>
              <a:ext cx="2667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lextree for bigrams of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4952880" y="2438280"/>
              <a:ext cx="152640" cy="152640"/>
            </a:xfrm>
            <a:prstGeom prst="ellipse">
              <a:avLst/>
            </a:prstGeom>
            <a:solidFill>
              <a:srgbClr val="ff00ff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6" name=""/>
            <p:cNvCxnSpPr>
              <a:stCxn id="745" idx="5"/>
              <a:endCxn id="742" idx="0"/>
            </p:cNvCxnSpPr>
            <p:nvPr/>
          </p:nvCxnSpPr>
          <p:spPr>
            <a:xfrm>
              <a:off x="5083200" y="2568600"/>
              <a:ext cx="480240" cy="86112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cxnSp>
          <p:nvCxnSpPr>
            <p:cNvPr id="747" name=""/>
            <p:cNvCxnSpPr>
              <a:stCxn id="738" idx="0"/>
              <a:endCxn id="742" idx="0"/>
            </p:cNvCxnSpPr>
            <p:nvPr/>
          </p:nvCxnSpPr>
          <p:spPr>
            <a:xfrm>
              <a:off x="3619440" y="2895480"/>
              <a:ext cx="1944000" cy="53424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48" name=""/>
            <p:cNvSpPr/>
            <p:nvPr/>
          </p:nvSpPr>
          <p:spPr>
            <a:xfrm>
              <a:off x="5105520" y="2300400"/>
              <a:ext cx="22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828800" y="3048120"/>
              <a:ext cx="152280" cy="15228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50" name=""/>
            <p:cNvCxnSpPr>
              <a:stCxn id="749" idx="6"/>
              <a:endCxn id="729" idx="0"/>
            </p:cNvCxnSpPr>
            <p:nvPr/>
          </p:nvCxnSpPr>
          <p:spPr>
            <a:xfrm flipV="1">
              <a:off x="1980720" y="2819160"/>
              <a:ext cx="686520" cy="305280"/>
            </a:xfrm>
            <a:prstGeom prst="straightConnector1">
              <a:avLst/>
            </a:prstGeom>
            <a:ln w="12600">
              <a:solidFill>
                <a:srgbClr val="969696"/>
              </a:solidFill>
              <a:miter/>
              <a:tailEnd len="med" type="triangle" w="med"/>
            </a:ln>
          </p:spPr>
        </p:cxnSp>
        <p:sp>
          <p:nvSpPr>
            <p:cNvPr id="751" name=""/>
            <p:cNvSpPr/>
            <p:nvPr/>
          </p:nvSpPr>
          <p:spPr>
            <a:xfrm>
              <a:off x="609480" y="3228840"/>
              <a:ext cx="23623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ackoff node through which 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Arial"/>
                </a:rPr>
                <a:t>all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word exits transition to unigram lext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ost-Lextree LM Evaluation (Sphinx-II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ingle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ull transitions from leaf nodes back to root nod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No LM score upon transition into root or non-leaf node of lextre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Choose best resulting path-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rawbacks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exact acoustic score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oot node evaluated w.r.t. a single left context, but resulting score used w.r.t. all histories (with possibly different left contexts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mpoverished word segmentation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Q: Which transition wins?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 (separate model per word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LM score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y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word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P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| nineteen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ince the latter is much better, it prevails over the former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ult: correct recognition, and segmentation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6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57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72" name=""/>
            <p:cNvCxnSpPr>
              <a:stCxn id="769" idx="3"/>
              <a:endCxn id="771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773" name=""/>
            <p:cNvCxnSpPr>
              <a:stCxn id="770" idx="3"/>
              <a:endCxn id="771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4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5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6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7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8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9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0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ord Segmentation Problem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entered without any LM scor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Attempt to enter root nod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 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gai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ansition may or may not succeed (no LM score used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C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: obtain LM score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all predecessor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f transition at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B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failed, the only candidate predecessor is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 result: incorrect segmentation for 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ninety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(</a:t>
            </a:r>
            <a:r>
              <a:rPr b="1" i="1" lang="en-US" sz="1800" spc="-1" strike="noStrike">
                <a:solidFill>
                  <a:srgbClr val="ffffff"/>
                </a:solidFill>
                <a:latin typeface="Times New Roman"/>
              </a:rPr>
              <a:t>2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)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, incorrect recognition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83" name=""/>
          <p:cNvGrpSpPr/>
          <p:nvPr/>
        </p:nvGrpSpPr>
        <p:grpSpPr>
          <a:xfrm>
            <a:off x="609480" y="1066680"/>
            <a:ext cx="8077320" cy="2286000"/>
            <a:chOff x="609480" y="1066680"/>
            <a:chExt cx="8077320" cy="2286000"/>
          </a:xfrm>
        </p:grpSpPr>
        <p:sp>
          <p:nvSpPr>
            <p:cNvPr id="784" name=""/>
            <p:cNvSpPr/>
            <p:nvPr/>
          </p:nvSpPr>
          <p:spPr>
            <a:xfrm>
              <a:off x="609480" y="1066680"/>
              <a:ext cx="106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3352680" y="10666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6094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b2b2b2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3352680" y="152388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609480" y="14335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609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289548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4572000" y="13572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609480" y="1890720"/>
              <a:ext cx="39625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60948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2286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4572000" y="1814400"/>
              <a:ext cx="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609480" y="2590920"/>
              <a:ext cx="114300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een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762120" y="30481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2819520" y="2819520"/>
              <a:ext cx="838080" cy="304560"/>
            </a:xfrm>
            <a:prstGeom prst="rect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99" name=""/>
            <p:cNvCxnSpPr>
              <a:stCxn id="796" idx="3"/>
              <a:endCxn id="798" idx="1"/>
            </p:cNvCxnSpPr>
            <p:nvPr/>
          </p:nvCxnSpPr>
          <p:spPr>
            <a:xfrm>
              <a:off x="1752480" y="2742840"/>
              <a:ext cx="106776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800" name=""/>
            <p:cNvCxnSpPr>
              <a:stCxn id="797" idx="3"/>
              <a:endCxn id="798" idx="1"/>
            </p:cNvCxnSpPr>
            <p:nvPr/>
          </p:nvCxnSpPr>
          <p:spPr>
            <a:xfrm flipV="1">
              <a:off x="1599840" y="2971080"/>
              <a:ext cx="1220040" cy="229320"/>
            </a:xfrm>
            <a:prstGeom prst="straightConnector1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01" name=""/>
            <p:cNvSpPr/>
            <p:nvPr/>
          </p:nvSpPr>
          <p:spPr>
            <a:xfrm>
              <a:off x="4648320" y="1219320"/>
              <a:ext cx="3429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4648320" y="1676520"/>
              <a:ext cx="3504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incorrect segmentation for ninety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3733920" y="2819520"/>
              <a:ext cx="4952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ssume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een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 &gt; P 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ninety | ninety</a:t>
              </a:r>
              <a:r>
                <a:rPr b="0" lang="en-US" sz="1800" spc="-1" strike="noStrike">
                  <a:solidFill>
                    <a:srgbClr val="ffffff"/>
                  </a:solidFill>
                  <a:latin typeface="Times New Roman"/>
                </a:rPr>
                <a:t>)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1066680" y="2057400"/>
              <a:ext cx="2590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ecision points: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A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B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</a:t>
              </a:r>
              <a:r>
                <a:rPr b="0" i="1" lang="en-US" sz="1800" spc="-1" strike="noStrike">
                  <a:solidFill>
                    <a:srgbClr val="ffffff"/>
                  </a:solidFill>
                  <a:latin typeface="Times New Roman"/>
                </a:rPr>
                <a:t>C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 flipH="1" flipV="1">
              <a:off x="2895120" y="1523880"/>
              <a:ext cx="228600" cy="609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 flipH="1" flipV="1">
              <a:off x="2285640" y="1981080"/>
              <a:ext cx="609480" cy="1526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 flipV="1">
              <a:off x="3581280" y="1980720"/>
              <a:ext cx="990720" cy="22860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Recognition Problem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Search organiz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ontinuous speech recogni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anguage model integr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runing for efficien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Lextree-LM Integration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ost-lextree LM scoring (as above); however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imited, static lextree replication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imits memory requirements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No dynamic lextree management overhea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ansitions into lextrees staggered across tim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t any time, only one lextree enter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-epl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” (entries per lextree) parameter: block of frames one lextree entered, before switching to next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ore word segmentations (start times) surviv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ull LM histories; if reached a leaf node for word </a:t>
            </a:r>
            <a:r>
              <a:rPr b="1" i="1" lang="en-US" sz="24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Find all possible LM histories of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(from BP table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Include LM scores for </a:t>
            </a:r>
            <a:r>
              <a:rPr b="1" i="1" lang="en-US" sz="2000" spc="-1" strike="noStrike">
                <a:solidFill>
                  <a:srgbClr val="ffffff"/>
                </a:solidFill>
                <a:latin typeface="Times New Roman"/>
              </a:rPr>
              <a:t>W</a:t>
            </a: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 w.r.t. each LM histor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reate a separate BP table entry for each resulting history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Pruning in Sphinx-3.2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Pure beam-pruning has long-tailed distribution of active HMMs/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to control worst-case performance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active HMMs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Implemented approximately, using “histogram pruning” (avoids expensive sorting step)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unique words exiting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ax. LM histories saved in BP table per 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ord error rate unaffect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dditional beam for lextree-internal, cross-HMM transitions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Unigram “lookahead” scores used in lextree for yet more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7 BN eval set, excluding F2 (telephone speech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K tied-state CHMM, 20 density/state model (1997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14" name=""/>
          <p:cNvGrpSpPr/>
          <p:nvPr/>
        </p:nvGrpSpPr>
        <p:grpSpPr>
          <a:xfrm>
            <a:off x="304920" y="2590920"/>
            <a:ext cx="8381880" cy="2971800"/>
            <a:chOff x="304920" y="2590920"/>
            <a:chExt cx="8381880" cy="2971800"/>
          </a:xfrm>
        </p:grpSpPr>
        <p:sp>
          <p:nvSpPr>
            <p:cNvPr id="815" name=""/>
            <p:cNvSpPr/>
            <p:nvPr/>
          </p:nvSpPr>
          <p:spPr>
            <a:xfrm>
              <a:off x="2057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7432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35812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6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8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8" name=""/>
            <p:cNvSpPr/>
            <p:nvPr/>
          </p:nvSpPr>
          <p:spPr>
            <a:xfrm>
              <a:off x="4343400" y="3353040"/>
              <a:ext cx="5335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5029200" y="3353040"/>
              <a:ext cx="76212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8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594360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1" name=""/>
            <p:cNvSpPr/>
            <p:nvPr/>
          </p:nvSpPr>
          <p:spPr>
            <a:xfrm>
              <a:off x="6553080" y="3353040"/>
              <a:ext cx="60984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2" name=""/>
            <p:cNvSpPr/>
            <p:nvPr/>
          </p:nvSpPr>
          <p:spPr>
            <a:xfrm>
              <a:off x="7315200" y="3353040"/>
              <a:ext cx="60948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8077320" y="3353040"/>
              <a:ext cx="53316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1447920" y="3353040"/>
              <a:ext cx="4572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5" name=""/>
            <p:cNvSpPr/>
            <p:nvPr/>
          </p:nvSpPr>
          <p:spPr>
            <a:xfrm>
              <a:off x="304920" y="3353040"/>
              <a:ext cx="914400" cy="22096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n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6" name=""/>
            <p:cNvSpPr/>
            <p:nvPr/>
          </p:nvSpPr>
          <p:spPr>
            <a:xfrm>
              <a:off x="457200" y="2895840"/>
              <a:ext cx="8229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304920" y="3276720"/>
              <a:ext cx="8229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1523880" y="266724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9" name=""/>
            <p:cNvSpPr/>
            <p:nvPr/>
          </p:nvSpPr>
          <p:spPr>
            <a:xfrm>
              <a:off x="5029200" y="266724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0" name=""/>
            <p:cNvSpPr/>
            <p:nvPr/>
          </p:nvSpPr>
          <p:spPr>
            <a:xfrm>
              <a:off x="4267080" y="266724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6934320" y="266724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8001000" y="268128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3" name=""/>
            <p:cNvSpPr/>
            <p:nvPr/>
          </p:nvSpPr>
          <p:spPr>
            <a:xfrm>
              <a:off x="350532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4" name=""/>
            <p:cNvSpPr/>
            <p:nvPr/>
          </p:nvSpPr>
          <p:spPr>
            <a:xfrm>
              <a:off x="502920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5530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7924680" y="2590920"/>
              <a:ext cx="0" cy="29718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7" name=""/>
            <p:cNvSpPr/>
            <p:nvPr/>
          </p:nvSpPr>
          <p:spPr>
            <a:xfrm>
              <a:off x="304920" y="4038840"/>
              <a:ext cx="822960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998 BN Eval se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5K tied-state CHMM, 32 density/state model (1998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60K vocab, trigram LM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0" name=""/>
          <p:cNvGrpSpPr/>
          <p:nvPr/>
        </p:nvGrpSpPr>
        <p:grpSpPr>
          <a:xfrm>
            <a:off x="380880" y="2514600"/>
            <a:ext cx="8305920" cy="3733920"/>
            <a:chOff x="380880" y="2514600"/>
            <a:chExt cx="8305920" cy="3733920"/>
          </a:xfrm>
        </p:grpSpPr>
        <p:sp>
          <p:nvSpPr>
            <p:cNvPr id="841" name=""/>
            <p:cNvSpPr/>
            <p:nvPr/>
          </p:nvSpPr>
          <p:spPr>
            <a:xfrm>
              <a:off x="20574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2" name=""/>
            <p:cNvSpPr/>
            <p:nvPr/>
          </p:nvSpPr>
          <p:spPr>
            <a:xfrm>
              <a:off x="2743200" y="3200400"/>
              <a:ext cx="5335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3" name=""/>
            <p:cNvSpPr/>
            <p:nvPr/>
          </p:nvSpPr>
          <p:spPr>
            <a:xfrm>
              <a:off x="35812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4" name=""/>
            <p:cNvSpPr/>
            <p:nvPr/>
          </p:nvSpPr>
          <p:spPr>
            <a:xfrm>
              <a:off x="4343400" y="3200400"/>
              <a:ext cx="533520" cy="2895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5" name=""/>
            <p:cNvSpPr/>
            <p:nvPr/>
          </p:nvSpPr>
          <p:spPr>
            <a:xfrm>
              <a:off x="5029200" y="3200400"/>
              <a:ext cx="76212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594360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7" name=""/>
            <p:cNvSpPr/>
            <p:nvPr/>
          </p:nvSpPr>
          <p:spPr>
            <a:xfrm>
              <a:off x="6553080" y="3200400"/>
              <a:ext cx="6098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8" name=""/>
            <p:cNvSpPr/>
            <p:nvPr/>
          </p:nvSpPr>
          <p:spPr>
            <a:xfrm>
              <a:off x="73152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9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6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9" name=""/>
            <p:cNvSpPr/>
            <p:nvPr/>
          </p:nvSpPr>
          <p:spPr>
            <a:xfrm>
              <a:off x="8077320" y="3200400"/>
              <a:ext cx="53316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25*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0" name=""/>
            <p:cNvSpPr/>
            <p:nvPr/>
          </p:nvSpPr>
          <p:spPr>
            <a:xfrm>
              <a:off x="1447920" y="3200400"/>
              <a:ext cx="45720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1" name=""/>
            <p:cNvSpPr/>
            <p:nvPr/>
          </p:nvSpPr>
          <p:spPr>
            <a:xfrm>
              <a:off x="380880" y="3200400"/>
              <a:ext cx="83844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lat-wb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rees: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2" name=""/>
            <p:cNvSpPr/>
            <p:nvPr/>
          </p:nvSpPr>
          <p:spPr>
            <a:xfrm>
              <a:off x="533520" y="2743200"/>
              <a:ext cx="815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config   wd/f    bp/f   hmm/f     WER   %incr   hmm/f    bp/f    srch     total    MHz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3" name=""/>
            <p:cNvSpPr/>
            <p:nvPr/>
          </p:nvSpPr>
          <p:spPr>
            <a:xfrm>
              <a:off x="380880" y="3124080"/>
              <a:ext cx="8305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4" name=""/>
            <p:cNvSpPr/>
            <p:nvPr/>
          </p:nvSpPr>
          <p:spPr>
            <a:xfrm>
              <a:off x="1523880" y="2514600"/>
              <a:ext cx="1752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runing param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5" name=""/>
            <p:cNvSpPr/>
            <p:nvPr/>
          </p:nvSpPr>
          <p:spPr>
            <a:xfrm>
              <a:off x="5029200" y="2514600"/>
              <a:ext cx="838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6" name=""/>
            <p:cNvSpPr/>
            <p:nvPr/>
          </p:nvSpPr>
          <p:spPr>
            <a:xfrm>
              <a:off x="4267080" y="2514600"/>
              <a:ext cx="838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WE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350532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8" name=""/>
            <p:cNvSpPr/>
            <p:nvPr/>
          </p:nvSpPr>
          <p:spPr>
            <a:xfrm>
              <a:off x="6934320" y="2514600"/>
              <a:ext cx="609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9" name=""/>
            <p:cNvSpPr/>
            <p:nvPr/>
          </p:nvSpPr>
          <p:spPr>
            <a:xfrm>
              <a:off x="8001000" y="25146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P-III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0" name=""/>
            <p:cNvSpPr/>
            <p:nvPr/>
          </p:nvSpPr>
          <p:spPr>
            <a:xfrm>
              <a:off x="502920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1" name=""/>
            <p:cNvSpPr/>
            <p:nvPr/>
          </p:nvSpPr>
          <p:spPr>
            <a:xfrm>
              <a:off x="65530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2" name=""/>
            <p:cNvSpPr/>
            <p:nvPr/>
          </p:nvSpPr>
          <p:spPr>
            <a:xfrm>
              <a:off x="7924680" y="2590920"/>
              <a:ext cx="0" cy="365760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3" name=""/>
            <p:cNvSpPr/>
            <p:nvPr/>
          </p:nvSpPr>
          <p:spPr>
            <a:xfrm>
              <a:off x="380880" y="3657600"/>
              <a:ext cx="8305920" cy="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4" name=""/>
            <p:cNvSpPr/>
            <p:nvPr/>
          </p:nvSpPr>
          <p:spPr>
            <a:xfrm>
              <a:off x="4343400" y="3200400"/>
              <a:ext cx="609480" cy="30481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7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.2 Performance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ffect of absolute pruning parameters (1998 BN)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Per frame) computation stats for each utteranc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Distribution of stats over entire test set (375 utts)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highly effective in controlling variance in computational cos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7" name=""/>
          <p:cNvGrpSpPr/>
          <p:nvPr/>
        </p:nvGrpSpPr>
        <p:grpSpPr>
          <a:xfrm>
            <a:off x="533520" y="3200400"/>
            <a:ext cx="8076960" cy="2743200"/>
            <a:chOff x="533520" y="3200400"/>
            <a:chExt cx="8076960" cy="2743200"/>
          </a:xfrm>
        </p:grpSpPr>
        <p:sp>
          <p:nvSpPr>
            <p:cNvPr id="868" name=""/>
            <p:cNvSpPr/>
            <p:nvPr/>
          </p:nvSpPr>
          <p:spPr>
            <a:xfrm>
              <a:off x="12952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9" name=""/>
            <p:cNvSpPr/>
            <p:nvPr/>
          </p:nvSpPr>
          <p:spPr>
            <a:xfrm>
              <a:off x="6094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--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0" name=""/>
            <p:cNvSpPr/>
            <p:nvPr/>
          </p:nvSpPr>
          <p:spPr>
            <a:xfrm>
              <a:off x="1981080" y="3886200"/>
              <a:ext cx="7621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0.0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8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1" name=""/>
            <p:cNvSpPr/>
            <p:nvPr/>
          </p:nvSpPr>
          <p:spPr>
            <a:xfrm>
              <a:off x="2819520" y="3886200"/>
              <a:ext cx="76176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6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1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7.3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2" name=""/>
            <p:cNvSpPr/>
            <p:nvPr/>
          </p:nvSpPr>
          <p:spPr>
            <a:xfrm>
              <a:off x="3657600" y="3886200"/>
              <a:ext cx="6858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5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8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K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3" name=""/>
            <p:cNvSpPr/>
            <p:nvPr/>
          </p:nvSpPr>
          <p:spPr>
            <a:xfrm>
              <a:off x="4572000" y="3886200"/>
              <a:ext cx="45720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51055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2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0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4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791320" y="3886200"/>
              <a:ext cx="60948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4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2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.8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662940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9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7238880" y="3886200"/>
              <a:ext cx="60984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3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5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3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3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1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9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7924680" y="3886200"/>
              <a:ext cx="533520" cy="205740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7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2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2.6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4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3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1.1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09480" y="3810240"/>
              <a:ext cx="77724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1981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441972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2" name=""/>
            <p:cNvSpPr/>
            <p:nvPr/>
          </p:nvSpPr>
          <p:spPr>
            <a:xfrm>
              <a:off x="6553080" y="3276720"/>
              <a:ext cx="0" cy="259092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3" name=""/>
            <p:cNvSpPr/>
            <p:nvPr/>
          </p:nvSpPr>
          <p:spPr>
            <a:xfrm>
              <a:off x="533520" y="3443400"/>
              <a:ext cx="137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mm/f  bp/f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4" name=""/>
            <p:cNvSpPr/>
            <p:nvPr/>
          </p:nvSpPr>
          <p:spPr>
            <a:xfrm>
              <a:off x="1905120" y="3443400"/>
              <a:ext cx="2514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    Max 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5" name=""/>
            <p:cNvSpPr/>
            <p:nvPr/>
          </p:nvSpPr>
          <p:spPr>
            <a:xfrm>
              <a:off x="44197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6" name=""/>
            <p:cNvSpPr/>
            <p:nvPr/>
          </p:nvSpPr>
          <p:spPr>
            <a:xfrm>
              <a:off x="6477120" y="3443400"/>
              <a:ext cx="2133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Mean  Max  StDev.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7" name=""/>
            <p:cNvSpPr/>
            <p:nvPr/>
          </p:nvSpPr>
          <p:spPr>
            <a:xfrm>
              <a:off x="2362320" y="3200400"/>
              <a:ext cx="1676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Active HMM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8" name=""/>
            <p:cNvSpPr/>
            <p:nvPr/>
          </p:nvSpPr>
          <p:spPr>
            <a:xfrm>
              <a:off x="4572000" y="3200400"/>
              <a:ext cx="1752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Ptbl entries/fr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9" name=""/>
            <p:cNvSpPr/>
            <p:nvPr/>
          </p:nvSpPr>
          <p:spPr>
            <a:xfrm>
              <a:off x="6781680" y="3200400"/>
              <a:ext cx="144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rch. xR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Conclusions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0x CHMM system available (thanks to P-!!!)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With lextree implementation, only about 1-2% of total HMMs active per fram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Order of magnitude fewer compared to flat lexicon searc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extree replication improves WER noticeabl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bsolute pruning parameters improve worst-case behavior significantly, without penalizing accuracy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When active search space grows beyond some threshold, no hope of correct recognition anyway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What Next?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ree lexicon still not as accurate as flat lexicon baselin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sidual word segmentation problem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2" marL="1085760" indent="-228600">
              <a:spcBef>
                <a:spcPts val="451"/>
              </a:spcBef>
              <a:buClr>
                <a:srgbClr val="ff3300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Try lextree replication?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Use of composite SSID model at leaf nodes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Parameters not close to optimal?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MM state acoustic score computation now dominant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Back to efficient Gaussian selection/computation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earch Organization in Sphinx-3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al structure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Cross-word triphone model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Multiplexing at word beginning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Replication at word en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ingle-phone words: combination of both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LM score applied upon transition into word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Trigram language model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However, only single best history maintained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eam-based pruning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Long-tailed distribution of active HMMs/frame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Sphinx-3 Lexical Structure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Flat lexicon; every word treated independently: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valuating an HMM w.r.t. input speech: Viterbi search</a:t>
            </a:r>
            <a:endParaRPr b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ff33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core the best state-sequence through HMM, given the input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3" name=""/>
          <p:cNvGrpSpPr/>
          <p:nvPr/>
        </p:nvGrpSpPr>
        <p:grpSpPr>
          <a:xfrm>
            <a:off x="1676520" y="1752480"/>
            <a:ext cx="4724280" cy="3505320"/>
            <a:chOff x="1676520" y="1752480"/>
            <a:chExt cx="4724280" cy="3505320"/>
          </a:xfrm>
        </p:grpSpPr>
        <p:sp>
          <p:nvSpPr>
            <p:cNvPr id="54" name=""/>
            <p:cNvSpPr/>
            <p:nvPr/>
          </p:nvSpPr>
          <p:spPr>
            <a:xfrm>
              <a:off x="441972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U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981080" y="1828800"/>
              <a:ext cx="685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ON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905120" y="2590920"/>
              <a:ext cx="76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WO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676520" y="3352680"/>
              <a:ext cx="99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THRE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352680" y="274320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286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4191120" y="4648320"/>
              <a:ext cx="152280" cy="15228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895480" y="251460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41972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A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3352680" y="198108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289548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W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5943600" y="175248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N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876920" y="198108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41972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3352680" y="3505320"/>
              <a:ext cx="106704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289548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TH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5943600" y="3276720"/>
              <a:ext cx="457200" cy="45720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Arial"/>
                </a:rPr>
                <a:t>IY</a:t>
              </a:r>
              <a:endParaRPr b="0" lang="en-US" sz="1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876920" y="3505320"/>
              <a:ext cx="10666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2" name=""/>
            <p:cNvCxnSpPr>
              <a:stCxn id="59" idx="1"/>
              <a:endCxn id="59" idx="7"/>
            </p:cNvCxnSpPr>
            <p:nvPr/>
          </p:nvCxnSpPr>
          <p:spPr>
            <a:xfrm flipH="1" rot="16200000">
              <a:off x="2361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3" name=""/>
            <p:cNvSpPr/>
            <p:nvPr/>
          </p:nvSpPr>
          <p:spPr>
            <a:xfrm>
              <a:off x="2438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4" name=""/>
            <p:cNvCxnSpPr>
              <a:stCxn id="59" idx="4"/>
            </p:cNvCxnSpPr>
            <p:nvPr/>
          </p:nvCxnSpPr>
          <p:spPr>
            <a:xfrm flipH="1" rot="16200000">
              <a:off x="2742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5" name=""/>
            <p:cNvSpPr/>
            <p:nvPr/>
          </p:nvSpPr>
          <p:spPr>
            <a:xfrm>
              <a:off x="2666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6" name=""/>
            <p:cNvCxnSpPr>
              <a:stCxn id="75" idx="1"/>
              <a:endCxn id="75" idx="7"/>
            </p:cNvCxnSpPr>
            <p:nvPr/>
          </p:nvCxnSpPr>
          <p:spPr>
            <a:xfrm flipH="1" rot="16200000">
              <a:off x="2742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7" name=""/>
            <p:cNvSpPr/>
            <p:nvPr/>
          </p:nvSpPr>
          <p:spPr>
            <a:xfrm>
              <a:off x="2819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>
              <a:stCxn id="75" idx="4"/>
            </p:cNvCxnSpPr>
            <p:nvPr/>
          </p:nvCxnSpPr>
          <p:spPr>
            <a:xfrm flipH="1" rot="16200000">
              <a:off x="312264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79" name=""/>
            <p:cNvSpPr/>
            <p:nvPr/>
          </p:nvSpPr>
          <p:spPr>
            <a:xfrm>
              <a:off x="304812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0" name=""/>
            <p:cNvCxnSpPr>
              <a:stCxn id="79" idx="1"/>
              <a:endCxn id="79" idx="7"/>
            </p:cNvCxnSpPr>
            <p:nvPr/>
          </p:nvCxnSpPr>
          <p:spPr>
            <a:xfrm flipH="1" rot="16200000">
              <a:off x="312300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1" name=""/>
            <p:cNvSpPr/>
            <p:nvPr/>
          </p:nvSpPr>
          <p:spPr>
            <a:xfrm>
              <a:off x="3200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2" name=""/>
            <p:cNvCxnSpPr>
              <a:stCxn id="79" idx="4"/>
            </p:cNvCxnSpPr>
            <p:nvPr/>
          </p:nvCxnSpPr>
          <p:spPr>
            <a:xfrm flipH="1" rot="16200000">
              <a:off x="3503520" y="4420080"/>
              <a:ext cx="2160" cy="762840"/>
            </a:xfrm>
            <a:prstGeom prst="curvedConnector5">
              <a:avLst>
                <a:gd name="adj1" fmla="val 14400000"/>
                <a:gd name="adj2" fmla="val 50000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3" name=""/>
            <p:cNvSpPr/>
            <p:nvPr/>
          </p:nvSpPr>
          <p:spPr>
            <a:xfrm>
              <a:off x="3429000" y="4648320"/>
              <a:ext cx="15228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4" name=""/>
            <p:cNvCxnSpPr>
              <a:stCxn id="83" idx="1"/>
              <a:endCxn id="83" idx="7"/>
            </p:cNvCxnSpPr>
            <p:nvPr/>
          </p:nvCxnSpPr>
          <p:spPr>
            <a:xfrm flipH="1" rot="16200000">
              <a:off x="350424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5" name=""/>
            <p:cNvSpPr/>
            <p:nvPr/>
          </p:nvSpPr>
          <p:spPr>
            <a:xfrm>
              <a:off x="358128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6" name=""/>
            <p:cNvCxnSpPr>
              <a:stCxn id="83" idx="4"/>
            </p:cNvCxnSpPr>
            <p:nvPr/>
          </p:nvCxnSpPr>
          <p:spPr>
            <a:xfrm flipH="1" rot="16200000">
              <a:off x="3885480" y="4420080"/>
              <a:ext cx="2160" cy="762480"/>
            </a:xfrm>
            <a:prstGeom prst="curvedConnector5">
              <a:avLst>
                <a:gd name="adj1" fmla="val 14400000"/>
                <a:gd name="adj2" fmla="val 49976"/>
                <a:gd name="adj3" fmla="val 144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7" name=""/>
            <p:cNvSpPr/>
            <p:nvPr/>
          </p:nvSpPr>
          <p:spPr>
            <a:xfrm>
              <a:off x="3809880" y="4648320"/>
              <a:ext cx="152640" cy="152280"/>
            </a:xfrm>
            <a:prstGeom prst="ellipse">
              <a:avLst/>
            </a:prstGeom>
            <a:solidFill>
              <a:srgbClr val="b2b2b2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88" name=""/>
            <p:cNvCxnSpPr>
              <a:stCxn id="87" idx="1"/>
              <a:endCxn id="87" idx="7"/>
            </p:cNvCxnSpPr>
            <p:nvPr/>
          </p:nvCxnSpPr>
          <p:spPr>
            <a:xfrm flipH="1" rot="16200000">
              <a:off x="3885120" y="4615920"/>
              <a:ext cx="2520" cy="108720"/>
            </a:xfrm>
            <a:prstGeom prst="curvedConnector5">
              <a:avLst>
                <a:gd name="adj1" fmla="val -24800000"/>
                <a:gd name="adj2" fmla="val 49833"/>
                <a:gd name="adj3" fmla="val -248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89" name=""/>
            <p:cNvSpPr/>
            <p:nvPr/>
          </p:nvSpPr>
          <p:spPr>
            <a:xfrm>
              <a:off x="396252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1981080" y="4038480"/>
              <a:ext cx="2514600" cy="1219320"/>
            </a:xfrm>
            <a:prstGeom prst="ellipse">
              <a:avLst/>
            </a:prstGeom>
            <a:noFill/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4495680" y="4510080"/>
              <a:ext cx="1524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5-state HMM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>
              <a:off x="2133360" y="3733920"/>
              <a:ext cx="990360" cy="6094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124080" y="3733920"/>
              <a:ext cx="762120" cy="380880"/>
            </a:xfrm>
            <a:prstGeom prst="line">
              <a:avLst/>
            </a:prstGeom>
            <a:ln w="12600">
              <a:solidFill>
                <a:srgbClr val="96969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7400" y="4724280"/>
              <a:ext cx="2286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97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98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06" name=""/>
          <p:cNvCxnSpPr>
            <a:stCxn id="105" idx="1"/>
            <a:endCxn id="10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7" name=""/>
          <p:cNvCxnSpPr>
            <a:stCxn id="10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stCxn id="10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0" name=""/>
          <p:cNvCxnSpPr>
            <a:stCxn id="109" idx="1"/>
            <a:endCxn id="10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1" name=""/>
          <p:cNvCxnSpPr>
            <a:stCxn id="10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2" name=""/>
          <p:cNvCxnSpPr>
            <a:stCxn id="10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4" name=""/>
          <p:cNvCxnSpPr>
            <a:stCxn id="113" idx="1"/>
            <a:endCxn id="11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5" name=""/>
          <p:cNvCxnSpPr>
            <a:stCxn id="11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6" name=""/>
          <p:cNvCxnSpPr>
            <a:stCxn id="11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7" idx="1"/>
            <a:endCxn id="11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19" name=""/>
          <p:cNvCxnSpPr>
            <a:stCxn id="11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0" name=""/>
          <p:cNvCxnSpPr>
            <a:stCxn id="11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1" idx="1"/>
            <a:endCxn id="12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23" name=""/>
          <p:cNvCxnSpPr>
            <a:stCxn id="12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371600" y="5791320"/>
            <a:ext cx="640080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1295280" y="5424480"/>
            <a:ext cx="449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itial state initialized with path-score = 1.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30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1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47" name=""/>
          <p:cNvCxnSpPr>
            <a:stCxn id="146" idx="1"/>
            <a:endCxn id="146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8" name=""/>
          <p:cNvCxnSpPr>
            <a:stCxn id="146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49" name=""/>
          <p:cNvCxnSpPr>
            <a:stCxn id="146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0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1" name=""/>
          <p:cNvCxnSpPr>
            <a:stCxn id="150" idx="1"/>
            <a:endCxn id="150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2" name=""/>
          <p:cNvCxnSpPr>
            <a:stCxn id="150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3" name=""/>
          <p:cNvCxnSpPr>
            <a:stCxn id="150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4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5" name=""/>
          <p:cNvCxnSpPr>
            <a:stCxn id="154" idx="1"/>
            <a:endCxn id="154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6" name=""/>
          <p:cNvCxnSpPr>
            <a:stCxn id="154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57" name=""/>
          <p:cNvCxnSpPr>
            <a:stCxn id="154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58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59" name=""/>
          <p:cNvCxnSpPr>
            <a:stCxn id="158" idx="1"/>
            <a:endCxn id="158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0" name=""/>
          <p:cNvCxnSpPr>
            <a:stCxn id="158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1" name=""/>
          <p:cNvCxnSpPr>
            <a:stCxn id="158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2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63" name=""/>
          <p:cNvCxnSpPr>
            <a:stCxn id="162" idx="1"/>
            <a:endCxn id="162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64" name=""/>
          <p:cNvCxnSpPr>
            <a:stCxn id="162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65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2590920" y="5791320"/>
            <a:ext cx="518148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505320" y="2514600"/>
            <a:ext cx="3962160" cy="1143000"/>
            <a:chOff x="3505320" y="2514600"/>
            <a:chExt cx="3962160" cy="1143000"/>
          </a:xfrm>
        </p:grpSpPr>
        <p:sp>
          <p:nvSpPr>
            <p:cNvPr id="168" name=""/>
            <p:cNvSpPr/>
            <p:nvPr/>
          </p:nvSpPr>
          <p:spPr>
            <a:xfrm>
              <a:off x="3657600" y="2666880"/>
              <a:ext cx="228240" cy="22860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657600" y="2971800"/>
              <a:ext cx="228240" cy="22860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657600" y="3276720"/>
              <a:ext cx="228240" cy="22860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4038480" y="2590920"/>
              <a:ext cx="289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best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4038480" y="2895480"/>
              <a:ext cx="3123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 path-score &lt; best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4038480" y="3200400"/>
              <a:ext cx="3428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State without a valid path-score</a:t>
              </a:r>
              <a:endParaRPr b="0" lang="en-US" sz="18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505320" y="2514600"/>
              <a:ext cx="3962160" cy="114300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75" name=""/>
          <p:cNvGrpSpPr/>
          <p:nvPr/>
        </p:nvGrpSpPr>
        <p:grpSpPr>
          <a:xfrm>
            <a:off x="3581280" y="3733920"/>
            <a:ext cx="3886200" cy="688320"/>
            <a:chOff x="3581280" y="3733920"/>
            <a:chExt cx="3886200" cy="688320"/>
          </a:xfrm>
        </p:grpSpPr>
        <p:sp>
          <p:nvSpPr>
            <p:cNvPr id="176" name=""/>
            <p:cNvSpPr/>
            <p:nvPr/>
          </p:nvSpPr>
          <p:spPr>
            <a:xfrm>
              <a:off x="3581280" y="37339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7339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267080" y="3733920"/>
              <a:ext cx="3200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= 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max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[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P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-1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 a   b  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(</a:t>
              </a: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t</a:t>
              </a:r>
              <a:r>
                <a:rPr b="0" lang="en-US" sz="2400" spc="-1" strike="noStrike">
                  <a:solidFill>
                    <a:srgbClr val="ffffff"/>
                  </a:solidFill>
                  <a:latin typeface="Times New Roman"/>
                </a:rPr>
                <a:t>)]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3412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6248520" y="3886200"/>
              <a:ext cx="38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6629400" y="388620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j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724280" y="3962520"/>
              <a:ext cx="228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ffff"/>
                  </a:solidFill>
                  <a:latin typeface="Times New Roman"/>
                </a:rPr>
                <a:t>i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83" name=""/>
          <p:cNvSpPr/>
          <p:nvPr/>
        </p:nvSpPr>
        <p:spPr>
          <a:xfrm>
            <a:off x="3200400" y="5181480"/>
            <a:ext cx="480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tal path-score ending up at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33920" y="441972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tate transition probability,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i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o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343400" y="4800600"/>
            <a:ext cx="434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core for stat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j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 given the input at time </a:t>
            </a:r>
            <a:r>
              <a:rPr b="0" i="1" lang="en-US" sz="1800" spc="-1" strike="noStrike">
                <a:solidFill>
                  <a:srgbClr val="ffffff"/>
                </a:solidFill>
                <a:latin typeface="Times New Roman"/>
              </a:rPr>
              <a:t>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V="1">
            <a:off x="3352680" y="4190760"/>
            <a:ext cx="304920" cy="9903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V="1">
            <a:off x="5715000" y="4191120"/>
            <a:ext cx="533520" cy="30456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6858000" y="4190760"/>
            <a:ext cx="1295280" cy="685800"/>
          </a:xfrm>
          <a:prstGeom prst="line">
            <a:avLst/>
          </a:prstGeom>
          <a:ln w="9360">
            <a:solidFill>
              <a:srgbClr val="c0c0c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 flipV="1">
            <a:off x="121932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243828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657600" y="2895480"/>
            <a:ext cx="0" cy="289584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cxnSp>
        <p:nvCxnSpPr>
          <p:cNvPr id="194" name=""/>
          <p:cNvCxnSpPr/>
          <p:nvPr/>
        </p:nvCxnSpPr>
        <p:spPr>
          <a:xfrm>
            <a:off x="182880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5" name=""/>
          <p:cNvSpPr/>
          <p:nvPr/>
        </p:nvSpPr>
        <p:spPr>
          <a:xfrm>
            <a:off x="106668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1066680" y="50292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1066680" y="4419720"/>
            <a:ext cx="304920" cy="30456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06668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6668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2286000" y="5638680"/>
            <a:ext cx="30492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286000" y="5029200"/>
            <a:ext cx="30492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286000" y="4419720"/>
            <a:ext cx="30492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380988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286000" y="3200400"/>
            <a:ext cx="304920" cy="304920"/>
          </a:xfrm>
          <a:prstGeom prst="ellipse">
            <a:avLst/>
          </a:prstGeom>
          <a:solidFill>
            <a:srgbClr val="969696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286000" y="2590920"/>
            <a:ext cx="30492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 flipV="1">
            <a:off x="1371600" y="525780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 flipV="1">
            <a:off x="137160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05320" y="5029200"/>
            <a:ext cx="304560" cy="30492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505320" y="56386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505320" y="4419720"/>
            <a:ext cx="304560" cy="30456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505320" y="380988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505320" y="3200400"/>
            <a:ext cx="304560" cy="30492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505320" y="2590920"/>
            <a:ext cx="304560" cy="30456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2590920" y="579132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2590920" y="5257800"/>
            <a:ext cx="914400" cy="53352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2590920" y="4724280"/>
            <a:ext cx="914400" cy="106704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2590920" y="518148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2590920" y="4647960"/>
            <a:ext cx="914400" cy="53316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 flipV="1">
            <a:off x="2590920" y="411444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2590920" y="4572000"/>
            <a:ext cx="914400" cy="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V="1">
            <a:off x="2590920" y="4038480"/>
            <a:ext cx="914400" cy="53352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2590920" y="3504960"/>
            <a:ext cx="914400" cy="1066680"/>
          </a:xfrm>
          <a:prstGeom prst="line">
            <a:avLst/>
          </a:prstGeom>
          <a:ln w="648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772400" y="55627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im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171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26" name=""/>
          <p:cNvCxnSpPr>
            <a:stCxn id="225" idx="1"/>
            <a:endCxn id="225" idx="7"/>
          </p:cNvCxnSpPr>
          <p:nvPr/>
        </p:nvCxnSpPr>
        <p:spPr>
          <a:xfrm flipH="1" rot="16200000">
            <a:off x="2361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7" name=""/>
          <p:cNvCxnSpPr>
            <a:stCxn id="225" idx="6"/>
          </p:cNvCxnSpPr>
          <p:nvPr/>
        </p:nvCxnSpPr>
        <p:spPr>
          <a:xfrm>
            <a:off x="2552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28" name=""/>
          <p:cNvCxnSpPr>
            <a:stCxn id="225" idx="4"/>
          </p:cNvCxnSpPr>
          <p:nvPr/>
        </p:nvCxnSpPr>
        <p:spPr>
          <a:xfrm flipH="1" rot="16200000">
            <a:off x="3122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29" name=""/>
          <p:cNvSpPr/>
          <p:nvPr/>
        </p:nvSpPr>
        <p:spPr>
          <a:xfrm>
            <a:off x="2933640" y="1523880"/>
            <a:ext cx="381240" cy="381240"/>
          </a:xfrm>
          <a:prstGeom prst="ellipse">
            <a:avLst/>
          </a:prstGeom>
          <a:solidFill>
            <a:srgbClr val="ff0000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0" name=""/>
          <p:cNvCxnSpPr>
            <a:stCxn id="229" idx="1"/>
            <a:endCxn id="229" idx="7"/>
          </p:cNvCxnSpPr>
          <p:nvPr/>
        </p:nvCxnSpPr>
        <p:spPr>
          <a:xfrm flipH="1" rot="16200000">
            <a:off x="3123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1" name=""/>
          <p:cNvCxnSpPr>
            <a:stCxn id="229" idx="6"/>
          </p:cNvCxnSpPr>
          <p:nvPr/>
        </p:nvCxnSpPr>
        <p:spPr>
          <a:xfrm>
            <a:off x="3314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2" name=""/>
          <p:cNvCxnSpPr>
            <a:stCxn id="229" idx="4"/>
          </p:cNvCxnSpPr>
          <p:nvPr/>
        </p:nvCxnSpPr>
        <p:spPr>
          <a:xfrm flipH="1" rot="16200000">
            <a:off x="3885480" y="1143360"/>
            <a:ext cx="2160" cy="1524960"/>
          </a:xfrm>
          <a:prstGeom prst="curvedConnector5">
            <a:avLst>
              <a:gd name="adj1" fmla="val 25180000"/>
              <a:gd name="adj2" fmla="val 49988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69576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4" name=""/>
          <p:cNvCxnSpPr>
            <a:stCxn id="233" idx="1"/>
            <a:endCxn id="233" idx="7"/>
          </p:cNvCxnSpPr>
          <p:nvPr/>
        </p:nvCxnSpPr>
        <p:spPr>
          <a:xfrm flipH="1" rot="16200000">
            <a:off x="3885480" y="1445040"/>
            <a:ext cx="2160" cy="270720"/>
          </a:xfrm>
          <a:prstGeom prst="curvedConnector5">
            <a:avLst>
              <a:gd name="adj1" fmla="val -27700000"/>
              <a:gd name="adj2" fmla="val 49933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5" name=""/>
          <p:cNvCxnSpPr>
            <a:stCxn id="233" idx="6"/>
          </p:cNvCxnSpPr>
          <p:nvPr/>
        </p:nvCxnSpPr>
        <p:spPr>
          <a:xfrm>
            <a:off x="4076280" y="1714320"/>
            <a:ext cx="38196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6" name=""/>
          <p:cNvCxnSpPr>
            <a:stCxn id="233" idx="4"/>
          </p:cNvCxnSpPr>
          <p:nvPr/>
        </p:nvCxnSpPr>
        <p:spPr>
          <a:xfrm flipH="1" rot="16200000">
            <a:off x="464652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37" name=""/>
          <p:cNvSpPr/>
          <p:nvPr/>
        </p:nvSpPr>
        <p:spPr>
          <a:xfrm>
            <a:off x="4457880" y="1523880"/>
            <a:ext cx="38088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38" name=""/>
          <p:cNvCxnSpPr>
            <a:stCxn id="237" idx="1"/>
            <a:endCxn id="237" idx="7"/>
          </p:cNvCxnSpPr>
          <p:nvPr/>
        </p:nvCxnSpPr>
        <p:spPr>
          <a:xfrm flipH="1" rot="16200000">
            <a:off x="464724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39" name=""/>
          <p:cNvCxnSpPr>
            <a:stCxn id="237" idx="6"/>
          </p:cNvCxnSpPr>
          <p:nvPr/>
        </p:nvCxnSpPr>
        <p:spPr>
          <a:xfrm>
            <a:off x="483876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0" name=""/>
          <p:cNvCxnSpPr>
            <a:stCxn id="237" idx="4"/>
          </p:cNvCxnSpPr>
          <p:nvPr/>
        </p:nvCxnSpPr>
        <p:spPr>
          <a:xfrm flipH="1" rot="16200000">
            <a:off x="5408640" y="1143720"/>
            <a:ext cx="2160" cy="1524600"/>
          </a:xfrm>
          <a:prstGeom prst="curvedConnector5">
            <a:avLst>
              <a:gd name="adj1" fmla="val 25180000"/>
              <a:gd name="adj2" fmla="val 50000"/>
              <a:gd name="adj3" fmla="val 2518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1" name=""/>
          <p:cNvSpPr/>
          <p:nvPr/>
        </p:nvSpPr>
        <p:spPr>
          <a:xfrm>
            <a:off x="5219640" y="1523880"/>
            <a:ext cx="381240" cy="381240"/>
          </a:xfrm>
          <a:prstGeom prst="ellipse">
            <a:avLst/>
          </a:prstGeom>
          <a:solidFill>
            <a:srgbClr val="ff99cc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242" name=""/>
          <p:cNvCxnSpPr>
            <a:stCxn id="241" idx="1"/>
            <a:endCxn id="241" idx="7"/>
          </p:cNvCxnSpPr>
          <p:nvPr/>
        </p:nvCxnSpPr>
        <p:spPr>
          <a:xfrm flipH="1" rot="16200000">
            <a:off x="5409360" y="1445400"/>
            <a:ext cx="2160" cy="270360"/>
          </a:xfrm>
          <a:prstGeom prst="curvedConnector5">
            <a:avLst>
              <a:gd name="adj1" fmla="val -27700000"/>
              <a:gd name="adj2" fmla="val 50000"/>
              <a:gd name="adj3" fmla="val -27700000"/>
            </a:avLst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243" name=""/>
          <p:cNvCxnSpPr>
            <a:stCxn id="241" idx="6"/>
          </p:cNvCxnSpPr>
          <p:nvPr/>
        </p:nvCxnSpPr>
        <p:spPr>
          <a:xfrm>
            <a:off x="5600880" y="1714320"/>
            <a:ext cx="381600" cy="1080"/>
          </a:xfrm>
          <a:prstGeom prst="curvedConnector2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244" name=""/>
          <p:cNvSpPr/>
          <p:nvPr/>
        </p:nvSpPr>
        <p:spPr>
          <a:xfrm>
            <a:off x="5981760" y="1523880"/>
            <a:ext cx="380880" cy="381240"/>
          </a:xfrm>
          <a:prstGeom prst="ellipse">
            <a:avLst/>
          </a:prstGeom>
          <a:noFill/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09880" y="5791320"/>
            <a:ext cx="3962520" cy="0"/>
          </a:xfrm>
          <a:prstGeom prst="line">
            <a:avLst/>
          </a:prstGeom>
          <a:ln w="1260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1371600" y="5791320"/>
            <a:ext cx="914400" cy="0"/>
          </a:xfrm>
          <a:prstGeom prst="line">
            <a:avLst/>
          </a:prstGeom>
          <a:ln w="1584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228600" y="266400"/>
            <a:ext cx="8686800" cy="647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ffff"/>
                </a:solidFill>
                <a:latin typeface="Arial"/>
              </a:rPr>
              <a:t>Viterbi Search (contd.)</a:t>
            </a:r>
            <a:endParaRPr b="1" lang="en-US" sz="3600" spc="-1" strike="noStrike">
              <a:solidFill>
                <a:srgbClr val="ccffff"/>
              </a:solidFill>
              <a:latin typeface="Arial"/>
            </a:endParaRPr>
          </a:p>
        </p:txBody>
      </p:sp>
      <p:grpSp>
        <p:nvGrpSpPr>
          <p:cNvPr id="248" name=""/>
          <p:cNvGrpSpPr/>
          <p:nvPr/>
        </p:nvGrpSpPr>
        <p:grpSpPr>
          <a:xfrm>
            <a:off x="1828800" y="1081080"/>
            <a:ext cx="4533840" cy="1277280"/>
            <a:chOff x="1828800" y="1081080"/>
            <a:chExt cx="4533840" cy="1277280"/>
          </a:xfrm>
        </p:grpSpPr>
        <p:cxnSp>
          <p:nvCxnSpPr>
            <p:cNvPr id="249" name=""/>
            <p:cNvCxnSpPr/>
            <p:nvPr/>
          </p:nvCxnSpPr>
          <p:spPr>
            <a:xfrm>
              <a:off x="182880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0" name=""/>
            <p:cNvSpPr/>
            <p:nvPr/>
          </p:nvSpPr>
          <p:spPr>
            <a:xfrm>
              <a:off x="2171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1" name=""/>
            <p:cNvCxnSpPr>
              <a:stCxn id="250" idx="1"/>
              <a:endCxn id="250" idx="7"/>
            </p:cNvCxnSpPr>
            <p:nvPr/>
          </p:nvCxnSpPr>
          <p:spPr>
            <a:xfrm flipH="1" rot="16200000">
              <a:off x="2361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2" name=""/>
            <p:cNvCxnSpPr>
              <a:stCxn id="250" idx="6"/>
            </p:cNvCxnSpPr>
            <p:nvPr/>
          </p:nvCxnSpPr>
          <p:spPr>
            <a:xfrm>
              <a:off x="2552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3" name=""/>
            <p:cNvCxnSpPr>
              <a:stCxn id="250" idx="4"/>
            </p:cNvCxnSpPr>
            <p:nvPr/>
          </p:nvCxnSpPr>
          <p:spPr>
            <a:xfrm flipH="1" rot="16200000">
              <a:off x="3122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4" name=""/>
            <p:cNvSpPr/>
            <p:nvPr/>
          </p:nvSpPr>
          <p:spPr>
            <a:xfrm>
              <a:off x="2933640" y="1523880"/>
              <a:ext cx="38124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5" name=""/>
            <p:cNvCxnSpPr>
              <a:stCxn id="254" idx="1"/>
              <a:endCxn id="254" idx="7"/>
            </p:cNvCxnSpPr>
            <p:nvPr/>
          </p:nvCxnSpPr>
          <p:spPr>
            <a:xfrm flipH="1" rot="16200000">
              <a:off x="3123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6" name=""/>
            <p:cNvCxnSpPr>
              <a:stCxn id="254" idx="6"/>
            </p:cNvCxnSpPr>
            <p:nvPr/>
          </p:nvCxnSpPr>
          <p:spPr>
            <a:xfrm>
              <a:off x="3314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57" name=""/>
            <p:cNvCxnSpPr>
              <a:stCxn id="254" idx="4"/>
            </p:cNvCxnSpPr>
            <p:nvPr/>
          </p:nvCxnSpPr>
          <p:spPr>
            <a:xfrm flipH="1" rot="16200000">
              <a:off x="3885480" y="1143360"/>
              <a:ext cx="2160" cy="1524960"/>
            </a:xfrm>
            <a:prstGeom prst="curvedConnector5">
              <a:avLst>
                <a:gd name="adj1" fmla="val 25180000"/>
                <a:gd name="adj2" fmla="val 49988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58" name=""/>
            <p:cNvSpPr/>
            <p:nvPr/>
          </p:nvSpPr>
          <p:spPr>
            <a:xfrm>
              <a:off x="369576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59" name=""/>
            <p:cNvCxnSpPr>
              <a:stCxn id="258" idx="1"/>
              <a:endCxn id="258" idx="7"/>
            </p:cNvCxnSpPr>
            <p:nvPr/>
          </p:nvCxnSpPr>
          <p:spPr>
            <a:xfrm flipH="1" rot="16200000">
              <a:off x="3885480" y="1445040"/>
              <a:ext cx="2160" cy="270720"/>
            </a:xfrm>
            <a:prstGeom prst="curvedConnector5">
              <a:avLst>
                <a:gd name="adj1" fmla="val -27700000"/>
                <a:gd name="adj2" fmla="val 49933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0" name=""/>
            <p:cNvCxnSpPr>
              <a:stCxn id="258" idx="6"/>
            </p:cNvCxnSpPr>
            <p:nvPr/>
          </p:nvCxnSpPr>
          <p:spPr>
            <a:xfrm>
              <a:off x="4076280" y="1714320"/>
              <a:ext cx="38196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1" name=""/>
            <p:cNvCxnSpPr>
              <a:stCxn id="258" idx="4"/>
            </p:cNvCxnSpPr>
            <p:nvPr/>
          </p:nvCxnSpPr>
          <p:spPr>
            <a:xfrm flipH="1" rot="16200000">
              <a:off x="464652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2" name=""/>
            <p:cNvSpPr/>
            <p:nvPr/>
          </p:nvSpPr>
          <p:spPr>
            <a:xfrm>
              <a:off x="4457880" y="1523880"/>
              <a:ext cx="380880" cy="38124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3" name=""/>
            <p:cNvCxnSpPr>
              <a:stCxn id="262" idx="1"/>
              <a:endCxn id="262" idx="7"/>
            </p:cNvCxnSpPr>
            <p:nvPr/>
          </p:nvCxnSpPr>
          <p:spPr>
            <a:xfrm flipH="1" rot="16200000">
              <a:off x="464724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4" name=""/>
            <p:cNvCxnSpPr>
              <a:stCxn id="262" idx="6"/>
            </p:cNvCxnSpPr>
            <p:nvPr/>
          </p:nvCxnSpPr>
          <p:spPr>
            <a:xfrm>
              <a:off x="483876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5" name=""/>
            <p:cNvCxnSpPr>
              <a:stCxn id="262" idx="4"/>
            </p:cNvCxnSpPr>
            <p:nvPr/>
          </p:nvCxnSpPr>
          <p:spPr>
            <a:xfrm flipH="1" rot="16200000">
              <a:off x="5408640" y="1143720"/>
              <a:ext cx="2160" cy="1524600"/>
            </a:xfrm>
            <a:prstGeom prst="curvedConnector5">
              <a:avLst>
                <a:gd name="adj1" fmla="val 25180000"/>
                <a:gd name="adj2" fmla="val 50000"/>
                <a:gd name="adj3" fmla="val 2518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6" name=""/>
            <p:cNvSpPr/>
            <p:nvPr/>
          </p:nvSpPr>
          <p:spPr>
            <a:xfrm>
              <a:off x="5219640" y="1523880"/>
              <a:ext cx="381240" cy="38124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cxnSp>
          <p:nvCxnSpPr>
            <p:cNvPr id="267" name=""/>
            <p:cNvCxnSpPr>
              <a:stCxn id="266" idx="1"/>
              <a:endCxn id="266" idx="7"/>
            </p:cNvCxnSpPr>
            <p:nvPr/>
          </p:nvCxnSpPr>
          <p:spPr>
            <a:xfrm flipH="1" rot="16200000">
              <a:off x="5409360" y="1445400"/>
              <a:ext cx="2160" cy="270360"/>
            </a:xfrm>
            <a:prstGeom prst="curvedConnector5">
              <a:avLst>
                <a:gd name="adj1" fmla="val -27700000"/>
                <a:gd name="adj2" fmla="val 50000"/>
                <a:gd name="adj3" fmla="val -27700000"/>
              </a:avLst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cxnSp>
          <p:nvCxnSpPr>
            <p:cNvPr id="268" name=""/>
            <p:cNvCxnSpPr>
              <a:stCxn id="266" idx="6"/>
            </p:cNvCxnSpPr>
            <p:nvPr/>
          </p:nvCxnSpPr>
          <p:spPr>
            <a:xfrm>
              <a:off x="5600880" y="1714320"/>
              <a:ext cx="381600" cy="1080"/>
            </a:xfrm>
            <a:prstGeom prst="curvedConnector2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</p:cxnSp>
        <p:sp>
          <p:nvSpPr>
            <p:cNvPr id="269" name=""/>
            <p:cNvSpPr/>
            <p:nvPr/>
          </p:nvSpPr>
          <p:spPr>
            <a:xfrm>
              <a:off x="5981760" y="1523880"/>
              <a:ext cx="380880" cy="38124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1066680" y="2590920"/>
            <a:ext cx="7467840" cy="3431520"/>
            <a:chOff x="1066680" y="2590920"/>
            <a:chExt cx="7467840" cy="3431520"/>
          </a:xfrm>
        </p:grpSpPr>
        <p:sp>
          <p:nvSpPr>
            <p:cNvPr id="271" name=""/>
            <p:cNvSpPr/>
            <p:nvPr/>
          </p:nvSpPr>
          <p:spPr>
            <a:xfrm flipV="1">
              <a:off x="12193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>
              <a:off x="24382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V="1">
              <a:off x="36576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V="1">
              <a:off x="487692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flipV="1">
              <a:off x="609588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V="1">
              <a:off x="7315200" y="2895480"/>
              <a:ext cx="0" cy="289584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106668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066680" y="50292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1066680" y="4419720"/>
              <a:ext cx="304920" cy="30456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106668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106668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10666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2286000" y="563868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22860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228600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286000" y="380988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286000" y="3200400"/>
              <a:ext cx="304920" cy="304920"/>
            </a:xfrm>
            <a:prstGeom prst="ellipse">
              <a:avLst/>
            </a:prstGeom>
            <a:solidFill>
              <a:srgbClr val="969696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22860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1371600" y="579132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 flipV="1">
              <a:off x="13716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V="1">
              <a:off x="13716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505320" y="50292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5053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35053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35053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3505320" y="32004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35053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25909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>
              <a:off x="2590920" y="52578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flipV="1">
              <a:off x="25909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25909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 flipV="1">
              <a:off x="25909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 flipV="1">
              <a:off x="25909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25909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 flipV="1">
              <a:off x="25909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 flipV="1">
              <a:off x="25909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4724280" y="5029200"/>
              <a:ext cx="30492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72428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724280" y="4419720"/>
              <a:ext cx="30492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72428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472428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72428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380988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380988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V="1">
              <a:off x="380988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809880" y="5181480"/>
              <a:ext cx="91440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 flipV="1">
              <a:off x="380988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 flipV="1">
              <a:off x="380988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380988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 flipV="1">
              <a:off x="380988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 flipV="1">
              <a:off x="380988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80988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 flipV="1">
              <a:off x="380988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 flipV="1">
              <a:off x="380988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80988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 flipV="1">
              <a:off x="380988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5943600" y="4419720"/>
              <a:ext cx="304920" cy="30456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943600" y="56386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5943600" y="50292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5943600" y="380988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943600" y="3200400"/>
              <a:ext cx="30492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5943600" y="2590920"/>
              <a:ext cx="30492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02920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 flipV="1">
              <a:off x="502920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V="1">
              <a:off x="502920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502920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 flipV="1">
              <a:off x="502920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 flipV="1">
              <a:off x="5029200" y="4114440"/>
              <a:ext cx="914400" cy="10666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502920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 flipV="1">
              <a:off x="502920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 flipV="1">
              <a:off x="502920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502920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 flipV="1">
              <a:off x="5029200" y="34290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 flipV="1">
              <a:off x="502920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02920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 flipV="1">
              <a:off x="502920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7162920" y="3200400"/>
              <a:ext cx="304560" cy="304920"/>
            </a:xfrm>
            <a:prstGeom prst="ellipse">
              <a:avLst/>
            </a:prstGeom>
            <a:solidFill>
              <a:srgbClr val="ff0000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7162920" y="56386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7162920" y="4419720"/>
              <a:ext cx="304560" cy="30456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7162920" y="380988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7162920" y="5029200"/>
              <a:ext cx="304560" cy="304920"/>
            </a:xfrm>
            <a:prstGeom prst="ellipse">
              <a:avLst/>
            </a:prstGeom>
            <a:solidFill>
              <a:srgbClr val="ff99cc"/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162920" y="2590920"/>
              <a:ext cx="304560" cy="304560"/>
            </a:xfrm>
            <a:prstGeom prst="ellipse">
              <a:avLst/>
            </a:prstGeom>
            <a:noFill/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6248520" y="57913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 flipV="1">
              <a:off x="6248520" y="525780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 flipV="1">
              <a:off x="6248520" y="47242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6248520" y="51814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 flipV="1">
              <a:off x="6248520" y="46479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 flipV="1">
              <a:off x="6248520" y="411444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248520" y="457200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 flipV="1">
              <a:off x="6248520" y="4038480"/>
              <a:ext cx="914400" cy="53352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 flipV="1">
              <a:off x="6248520" y="3504960"/>
              <a:ext cx="914400" cy="106668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6248520" y="396252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flipV="1">
              <a:off x="6248520" y="3429000"/>
              <a:ext cx="914400" cy="5335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flipV="1">
              <a:off x="6248520" y="2895480"/>
              <a:ext cx="914400" cy="106704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248520" y="3352680"/>
              <a:ext cx="914400" cy="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6248520" y="2819160"/>
              <a:ext cx="914400" cy="533160"/>
            </a:xfrm>
            <a:prstGeom prst="line">
              <a:avLst/>
            </a:prstGeom>
            <a:ln w="6480">
              <a:solidFill>
                <a:srgbClr val="96969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7467480" y="5791320"/>
              <a:ext cx="30492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7772400" y="556272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time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7315200" y="2895120"/>
              <a:ext cx="0" cy="3049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4-24T20:33:41Z</dcterms:created>
  <dc:creator>speech</dc:creator>
  <dc:description/>
  <dc:language>en-US</dc:language>
  <cp:lastModifiedBy>Speech</cp:lastModifiedBy>
  <cp:lastPrinted>1999-11-18T14:47:58Z</cp:lastPrinted>
  <dcterms:modified xsi:type="dcterms:W3CDTF">1999-11-22T18:46:14Z</dcterms:modified>
  <cp:revision>323</cp:revision>
  <dc:subject/>
  <dc:title>No Slide Title</dc:title>
</cp:coreProperties>
</file>