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6A53F-E769-459D-AFEA-4340002BE9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70EF8-21D3-42E8-A341-5357BEABA4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3B06-830F-4105-8067-50995EA491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EC1CE-C7B3-4ED4-9A44-5C7A8FA7ED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C9263E-F355-4FCC-A48A-CFF5256AE0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C8353-741B-409E-B2B5-23BACD45C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B4CA0-7A20-405B-84EC-15F830F3D1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380AA-AC2A-4B0A-B7E2-2819349E2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00A545-1974-4277-AB41-08D99C2589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E7C6FE-9A17-4CC8-B963-62EDB347D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ABBB6-EAB6-4A31-81F0-6CA3A0E26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009A2-06DA-4D39-B785-A2C1EA1B7C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2AB2B3-762B-498C-8B53-596C944CF9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F85C9E-4B2F-4CC7-9F37-93210DCA4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EABD7-07C0-4AAE-8A81-5C336F2E4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41D450-6CFF-4E8E-9225-1D61C3E76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2661D-320C-4BDC-B4C6-206FF4D0A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6B012-9A7F-4399-BAB5-5CC7ECD3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40E6-5AEC-4C01-B999-4402276A1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7E639-502F-4E0B-B5C6-C204A5ACF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292FF-1414-4C44-A160-F5C4D179B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63E9F-579B-4147-A1D6-8BEDCF958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3A9D8-232A-40D5-81E5-53DC940C2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D4D21-BCA7-42F7-AF19-1E265D98BC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41942-6C15-4C63-8954-E3E4E522B540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TW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4880E-3F35-4EAA-9FAB-FAADB242E4E7}" type="slidenum">
              <a:rPr b="0" lang="zh-TW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Sphinx 3.4 Development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Progress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115640" y="3499920"/>
            <a:ext cx="70102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thur Chan, Jahanzeb Sherwani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rnegie Mellon Universit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ar 4, 2004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lgorithm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The simple way (Naïve Down-Sampling)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senone scores only one and another N fram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Sphinx 3.4, implemented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ple wa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mproved version (Conditional Down-Samplin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Found sets of VQ codebook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a vector is clustered to a codeword again, computation is skipp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Naive down-sampling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10% degradation, 40-5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Conditional down-sampling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Rel 2-3% degradation, 20-30% redu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Level 2 :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5508720" y="1413000"/>
            <a:ext cx="1873080" cy="863640"/>
            <a:chOff x="5508720" y="1413000"/>
            <a:chExt cx="1873080" cy="863640"/>
          </a:xfrm>
        </p:grpSpPr>
        <p:sp>
          <p:nvSpPr>
            <p:cNvPr id="125" name=""/>
            <p:cNvSpPr/>
            <p:nvPr/>
          </p:nvSpPr>
          <p:spPr>
            <a:xfrm>
              <a:off x="5508720" y="1413000"/>
              <a:ext cx="0" cy="863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508720" y="2276640"/>
              <a:ext cx="18730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574524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587448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00408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613296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26220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1440" y="1460880"/>
              <a:ext cx="128880" cy="81576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520320" y="1460880"/>
              <a:ext cx="128880" cy="81576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4" name=""/>
          <p:cNvSpPr/>
          <p:nvPr/>
        </p:nvSpPr>
        <p:spPr>
          <a:xfrm rot="10800000">
            <a:off x="2050920" y="2349000"/>
            <a:ext cx="1224000" cy="3527640"/>
          </a:xfrm>
          <a:prstGeom prst="wedgeRectCallout">
            <a:avLst>
              <a:gd name="adj1" fmla="val -261287"/>
              <a:gd name="adj2" fmla="val 6300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484360" y="2708280"/>
            <a:ext cx="647640" cy="28814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484360" y="2708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484360" y="299736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484360" y="3284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484360" y="357336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484360" y="3860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484360" y="414972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4360" y="4437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484360" y="4724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484360" y="5013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84360" y="530064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4859280" y="2736720"/>
            <a:ext cx="4284720" cy="2775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Compute GMM only when its base-phones are highly like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Others backed-off by the base phone scores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Similar to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Julius: (Akinobu 1999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zh-TW" sz="2200" spc="-1" strike="noStrike">
                <a:solidFill>
                  <a:srgbClr val="000000"/>
                </a:solidFill>
                <a:latin typeface="Verdana"/>
              </a:rPr>
              <a:t>-Microsoft’s Rich Get Richer (RGR) heurist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2060640"/>
            <a:ext cx="93528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900000" y="184464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Algorithm:</a:t>
            </a:r>
            <a:br>
              <a:rPr sz="3400"/>
            </a:br>
            <a:r>
              <a:rPr b="0" lang="zh-TW" sz="3400" spc="-1" strike="noStrike">
                <a:solidFill>
                  <a:srgbClr val="000000"/>
                </a:solidFill>
                <a:latin typeface="Verdana"/>
              </a:rPr>
              <a:t>CI-based Senon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f base CI senone of CD senone has high score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E.g. aa (base CI senone) of t_aa_b (CD senon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CD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Else,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to CI sen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Known problem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Back-off caused many senone scores be the sam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aused inefficiency of the search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Very effectiv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75%-80% reduction of senone computation with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orthwhile in system with large portion time spent in  doing GMM computation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3 : 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468360" y="1916280"/>
            <a:ext cx="647640" cy="2881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68360" y="1916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468360" y="220500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68360" y="2492280"/>
            <a:ext cx="647640" cy="2890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68360" y="2781360"/>
            <a:ext cx="647640" cy="28872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68360" y="306864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8360" y="335772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468360" y="364500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68360" y="393228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468360" y="4221000"/>
            <a:ext cx="647640" cy="28908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68360" y="4508640"/>
            <a:ext cx="647640" cy="28872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1835280" y="1989000"/>
            <a:ext cx="5689440" cy="1079640"/>
          </a:xfrm>
          <a:prstGeom prst="wedgeRectCallout">
            <a:avLst>
              <a:gd name="adj1" fmla="val -64425"/>
              <a:gd name="adj2" fmla="val 16838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050920" y="2133720"/>
            <a:ext cx="5185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20509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484360" y="2133720"/>
            <a:ext cx="43344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2916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3348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3780000" y="2133720"/>
            <a:ext cx="433080" cy="64764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421164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4328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508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507672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594036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6372360" y="2133720"/>
            <a:ext cx="43308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804000" y="2133720"/>
            <a:ext cx="433440" cy="64764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 flipH="1" flipV="1">
            <a:off x="3995640" y="2491920"/>
            <a:ext cx="2664000" cy="1081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42080" y="33717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flipH="1" flipV="1">
            <a:off x="971640" y="4723920"/>
            <a:ext cx="503280" cy="863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258920" y="5589720"/>
            <a:ext cx="8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Algorithm: VQ-based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Gaussian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66280" y="1825560"/>
            <a:ext cx="8001000" cy="4267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Bochierri 9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Pre-compute a set of VQ codebook for all means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neighbors for each senones for codeword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If the mean of a Gaussian is closed to the codeword, consider it as a neighbor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Find the closest codeword for the feature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Gaussian distribution(s) only when they is/are the neighb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100" spc="-1" strike="noStrike">
                <a:solidFill>
                  <a:srgbClr val="000000"/>
                </a:solidFill>
                <a:latin typeface="Verdana"/>
              </a:rPr>
              <a:t>Quite effective 40-50% reduction, &lt;5% degrdation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Issues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quire back-off schem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Minimal number of neighbors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Always use the closest Gaussian as a neighbor (Douglas 99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urther constraints to reduce computation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Dual-ring constraints (Knill and Gales 97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Overhead is quite significant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Other approach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Tree-based algorithm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k-d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Decision tre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ssues : How to adapt these models?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No problem for VQ-based techniqu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Research problem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spcBef>
                <a:spcPts val="57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4 : Sub-vector quantiza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2627280" y="1773360"/>
            <a:ext cx="3240000" cy="431640"/>
            <a:chOff x="2627280" y="1773360"/>
            <a:chExt cx="3240000" cy="431640"/>
          </a:xfrm>
        </p:grpSpPr>
        <p:sp>
          <p:nvSpPr>
            <p:cNvPr id="189" name=""/>
            <p:cNvSpPr/>
            <p:nvPr/>
          </p:nvSpPr>
          <p:spPr>
            <a:xfrm>
              <a:off x="2627280" y="1773360"/>
              <a:ext cx="32389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62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898000" y="1773360"/>
              <a:ext cx="27072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16764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343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3707280" y="1773360"/>
              <a:ext cx="270360" cy="43164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97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424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478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451728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505692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5326920" y="1773360"/>
              <a:ext cx="27036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5596560" y="1773360"/>
              <a:ext cx="270720" cy="43164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2" name=""/>
          <p:cNvSpPr/>
          <p:nvPr/>
        </p:nvSpPr>
        <p:spPr>
          <a:xfrm rot="10800000">
            <a:off x="3274920" y="2709360"/>
            <a:ext cx="1441440" cy="3311640"/>
          </a:xfrm>
          <a:prstGeom prst="wedgeRectCallout">
            <a:avLst>
              <a:gd name="adj1" fmla="val 6717"/>
              <a:gd name="adj2" fmla="val 7319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490920" y="2925720"/>
            <a:ext cx="865080" cy="251928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 flipH="1" flipV="1">
            <a:off x="4571640" y="1989000"/>
            <a:ext cx="180036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6473520" y="2349360"/>
            <a:ext cx="116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490920" y="292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490920" y="328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490920" y="36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490920" y="436572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3490920" y="400536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490920" y="4726080"/>
            <a:ext cx="865080" cy="360360"/>
          </a:xfrm>
          <a:prstGeom prst="rect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490920" y="508644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0920" y="5445000"/>
            <a:ext cx="865080" cy="360360"/>
          </a:xfrm>
          <a:prstGeom prst="rect">
            <a:avLst/>
          </a:prstGeom>
          <a:solidFill>
            <a:srgbClr val="a3b2c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flipH="1" flipV="1">
            <a:off x="4282920" y="4941720"/>
            <a:ext cx="93672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219640" y="5445000"/>
            <a:ext cx="1584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e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Algorithm (Ravi 98)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training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artition all means to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sets of subvecto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ind a set of VQ code-book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 run-time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For each mea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For each subvector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ompute the closest index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Compute Gaussian score by combining all subvector scores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Verdana"/>
              </a:rPr>
              <a:t>Issue</a:t>
            </a:r>
            <a:endParaRPr b="0" lang="en-US" sz="4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an be used in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Use approximate score to decide which Gaussian to comput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an approximate scor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large number of sub-vectors (1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hug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Use as Gaussian Selec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Require small amount of sub-vectors(3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Overhead is still larger than VQ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624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Machine-related issues.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This seminar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verview of Sphinxes (5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Report on Sphinx 3.4 development progress (4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Speed-up algorithm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User/developer forum (20 mins.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 works in GMM Computation: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4-level of algorithmic optimization.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8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However 2x2 !=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ere is a certain lower limit of computation (e.g. 75-80%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Work in improving search: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Use approximate senone scores of future frames to determine whether a phone arc should be extended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Current Algorithm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If any senone of a phone HMM is active in any of future N frame, the phone is activ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Similar to Sphinx II.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500" spc="-1" strike="noStrike">
                <a:solidFill>
                  <a:srgbClr val="000000"/>
                </a:solidFill>
                <a:latin typeface="Verdana"/>
              </a:rPr>
              <a:t>Results not very promising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400" spc="-1" strike="noStrike">
                <a:solidFill>
                  <a:srgbClr val="000000"/>
                </a:solidFill>
                <a:latin typeface="Verdana"/>
              </a:rPr>
              <a:t>Next step: try to add path-score in decision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3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5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4643280" y="5373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4643280" y="587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5121720" y="422100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5121720" y="4724280"/>
            <a:ext cx="207360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 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5076720" y="5157720"/>
            <a:ext cx="3456000" cy="5806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-based GMM Selection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ub-vector constrained to 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076720" y="5805360"/>
            <a:ext cx="3456000" cy="337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SVQ code remov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7596360" y="2421000"/>
            <a:ext cx="1296720" cy="3682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Standar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7236000" y="3068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7343640" y="3429000"/>
            <a:ext cx="1800360" cy="64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No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Implemen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ummary of</a:t>
            </a:r>
            <a:br>
              <a:rPr sz="3800"/>
            </a:b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eed-up Facilities in s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7" name=""/>
          <p:cNvSpPr/>
          <p:nvPr/>
        </p:nvSpPr>
        <p:spPr>
          <a:xfrm>
            <a:off x="611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u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2124000" y="242100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2124000" y="2924280"/>
            <a:ext cx="719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2843280" y="1916280"/>
            <a:ext cx="1512720" cy="165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a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611280" y="3573360"/>
            <a:ext cx="2016000" cy="25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124000" y="3573360"/>
            <a:ext cx="50328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2627280" y="4149720"/>
            <a:ext cx="1944720" cy="20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627280" y="4149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m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2627280" y="4653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enone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2627280" y="515772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Gaussian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2627280" y="5661000"/>
            <a:ext cx="2016000" cy="5032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mponent-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643280" y="4437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643280" y="494172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4643280" y="5373720"/>
            <a:ext cx="43344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643280" y="5877000"/>
            <a:ext cx="433440" cy="576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194440" y="4149720"/>
            <a:ext cx="304596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Naïve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Conditional Down-Sampl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5229000" y="4724280"/>
            <a:ext cx="34786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CI-based GMM Sele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5076720" y="5157720"/>
            <a:ext cx="3672000" cy="10674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Unconstrained no. of sub-vectors in SVQ-based GMM Sel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5076720" y="6308640"/>
            <a:ext cx="3456000" cy="33732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cc0000"/>
                </a:solidFill>
                <a:latin typeface="Verdana"/>
              </a:rPr>
              <a:t>(New) </a:t>
            </a:r>
            <a:r>
              <a:rPr b="0" lang="en-US" sz="1600" spc="-1" strike="noStrike">
                <a:solidFill>
                  <a:srgbClr val="336699"/>
                </a:solidFill>
                <a:latin typeface="Verdana"/>
              </a:rPr>
              <a:t>SVQ code enabl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4356000" y="191628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4356000" y="3573360"/>
            <a:ext cx="792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148360" y="1916280"/>
            <a:ext cx="2016000" cy="1655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148360" y="191628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exicon Struc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5148360" y="2347920"/>
            <a:ext cx="2087640" cy="431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un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148360" y="2779560"/>
            <a:ext cx="2087640" cy="793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Heuristic Searc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peed-u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7596360" y="1989000"/>
            <a:ext cx="836280" cy="36828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0000"/>
                </a:solidFill>
                <a:latin typeface="Verdana"/>
              </a:rPr>
              <a:t>Tr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236000" y="2133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236000" y="256536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96360" y="2421000"/>
            <a:ext cx="1547640" cy="100764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Improve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Word-end Pruning</a:t>
            </a:r>
            <a:r>
              <a:rPr b="0" lang="en-US" sz="1800" spc="-1" strike="noStrike">
                <a:solidFill>
                  <a:srgbClr val="336699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236000" y="3068640"/>
            <a:ext cx="431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3573360"/>
            <a:ext cx="1800000" cy="520200"/>
          </a:xfrm>
          <a:prstGeom prst="rect">
            <a:avLst/>
          </a:prstGeom>
          <a:solidFill>
            <a:srgbClr val="dddddd"/>
          </a:solidFill>
          <a:ln w="936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0000"/>
                </a:solidFill>
                <a:latin typeface="Verdana"/>
              </a:rPr>
              <a:t>(New)</a:t>
            </a:r>
            <a:r>
              <a:rPr b="0" lang="en-US" sz="1400" spc="-1" strike="noStrike">
                <a:solidFill>
                  <a:srgbClr val="336699"/>
                </a:solidFill>
                <a:latin typeface="Verdana"/>
              </a:rPr>
              <a:t> Phoneme-Look-ahe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Language Model Faciliti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 and S3.3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accept non-class-based LM in DMP forma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ly one LM can be specified for the whole test set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3.4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Basic facilities for accepting class-based LM in DMP forma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upport dynamic LM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Not yet thoroughly tested, may disable it before stable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Availability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nternal release to CMU initially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ut in Arthur’s web page next week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Includ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speed-up code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LM facilities(?)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If it is more stable, will put in Sourceforge.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5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Better interfac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Stream-lined recognize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Enable Sphinx 3 to learn (AM and LM adaptation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Further Speed-up and improved accuracy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mproved lexical tree search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achine optimizatio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Multiple recognizer combination?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Your ideas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Your help is appreciated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Current team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thur =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lnSpc>
                <a:spcPct val="90000"/>
              </a:lnSpc>
              <a:spcBef>
                <a:spcPts val="40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600" spc="-1" strike="noStrike">
                <a:solidFill>
                  <a:srgbClr val="000000"/>
                </a:solidFill>
                <a:latin typeface="Verdana"/>
              </a:rPr>
              <a:t>(Maintainer + Developer) * Regression Tester ^ (Support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Jahanzeb = Developer in Search+ Regression Teste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avi = Developer + Consultant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000" spc="-1" strike="noStrike">
                <a:solidFill>
                  <a:srgbClr val="000000"/>
                </a:solidFill>
                <a:latin typeface="Verdana"/>
              </a:rPr>
              <a:t>We need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Developers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Regression tester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est scenari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Extension of current cod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uggestion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Comments/Feedback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Talk to Alex if you are interested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e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2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mi-continuous HMM-based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al-time performance : 0.5xRT – 1.5xR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Tree lexico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application development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ully-Continuous HMM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ly slower than Sphinx 2 : 14-17xRT (tested in P4 1G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8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lat lexicon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deal for research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8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phinx 3.3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gnificant modification of Sphinx 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8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ose to RT performance 4-7xRT – Tree lexic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Sphinx 3.4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Descendant of Sphinx 3.3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With improved speed performance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Already achieved real-time performance (1.3xRT) in Communicator task. 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Target users are application developer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Motivated by project CAL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verview of S3 and S3.3: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omputations at every frame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"/>
          <p:cNvSpPr/>
          <p:nvPr/>
        </p:nvSpPr>
        <p:spPr>
          <a:xfrm>
            <a:off x="1835280" y="2708280"/>
            <a:ext cx="180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1476360" y="2133720"/>
            <a:ext cx="5905080" cy="2485440"/>
            <a:chOff x="1476360" y="2133720"/>
            <a:chExt cx="5905080" cy="2485440"/>
          </a:xfrm>
        </p:grpSpPr>
        <p:sp>
          <p:nvSpPr>
            <p:cNvPr id="96" name=""/>
            <p:cNvSpPr/>
            <p:nvPr/>
          </p:nvSpPr>
          <p:spPr>
            <a:xfrm>
              <a:off x="147636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Sen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TW" sz="1800" spc="-1" strike="noStrike">
                  <a:solidFill>
                    <a:srgbClr val="000000"/>
                  </a:solidFill>
                  <a:latin typeface="Verdana"/>
                </a:rPr>
                <a:t>Comput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437080" y="2190960"/>
              <a:ext cx="1944360" cy="194472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earc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420720" y="262260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791160" y="2133720"/>
              <a:ext cx="887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Score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 flipH="1">
              <a:off x="3420360" y="3557520"/>
              <a:ext cx="1944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3683880" y="3702240"/>
              <a:ext cx="154476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(Informatio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For Prunin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Verdana"/>
                </a:rPr>
                <a:t>GMM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2484360" y="4724280"/>
            <a:ext cx="3743280" cy="1441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: -Flat lexicon, all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are compu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S3.3: -Tree lexicon, senon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1800" spc="-1" strike="noStrike">
                <a:solidFill>
                  <a:srgbClr val="000000"/>
                </a:solidFill>
                <a:latin typeface="Verdana"/>
              </a:rPr>
              <a:t>only when active in searc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Current Systems Specifications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(without Gaussian Selection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611280" y="1989000"/>
          <a:ext cx="8001000" cy="4604040"/>
        </p:xfrm>
        <a:graphic>
          <a:graphicData uri="http://schemas.openxmlformats.org/drawingml/2006/table">
            <a:tbl>
              <a:tblPr/>
              <a:tblGrid>
                <a:gridCol w="3097080"/>
                <a:gridCol w="2376360"/>
                <a:gridCol w="2527560"/>
              </a:tblGrid>
              <a:tr h="535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hinx 3.3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peed in P4-1G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ested in Communicator Task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7.2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1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RR 18.6%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xRT GMM,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TW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xRT S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GMM Computation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Not optimized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few cod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optimization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n applied Sub-VQ-based Gauss. Selecti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91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exicon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lat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re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, no beam on GMM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Search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Beam on GMM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10920" y="475920"/>
            <a:ext cx="8001000" cy="75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Our Plan in Q1 2004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upgrade s3.3 to s3.4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539640" y="1844280"/>
            <a:ext cx="8064720" cy="432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4-Level of Optimizatio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000" spc="-1" strike="noStrike">
                <a:solidFill>
                  <a:srgbClr val="000000"/>
                </a:solidFill>
                <a:latin typeface="Verdana"/>
              </a:rPr>
              <a:t>Other improvement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Phoneme look-ahea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300" spc="-1" strike="noStrike">
                <a:solidFill>
                  <a:srgbClr val="000000"/>
                </a:solidFill>
                <a:latin typeface="Verdana"/>
              </a:rPr>
              <a:t>Reduction of search space by determining the active phoneme list at word-begin.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2600" spc="-1" strike="noStrike">
                <a:solidFill>
                  <a:srgbClr val="000000"/>
                </a:solidFill>
                <a:latin typeface="Verdana"/>
              </a:rPr>
              <a:t>Multiple and dynamic LM faciliti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TW" sz="3800" spc="-1" strike="noStrike">
                <a:solidFill>
                  <a:srgbClr val="000000"/>
                </a:solidFill>
                <a:latin typeface="Verdana"/>
              </a:rPr>
              <a:t>Fast Senone Computatio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re than &gt;100 techniques can be found in the literature from 1989-2003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Most techniques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laim to have 50-80% reduction of comput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with “negligible” degradation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lnSpc>
                <a:spcPct val="90000"/>
              </a:lnSpc>
              <a:spcBef>
                <a:spcPts val="4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Practically : It translate to 5% to 30% relative degradation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Our approach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ategorize them to 4 different typ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mplement representative techniqu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une system to &lt;5% degrad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Users can choose which types of technique should be used. 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Fast GMM Computation: </a:t>
            </a:r>
            <a:br>
              <a:rPr sz="3400"/>
            </a:b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Level 1: Frame Selection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1619280" y="2060640"/>
            <a:ext cx="6265800" cy="2592360"/>
            <a:chOff x="1619280" y="2060640"/>
            <a:chExt cx="6265800" cy="2592360"/>
          </a:xfrm>
        </p:grpSpPr>
        <p:sp>
          <p:nvSpPr>
            <p:cNvPr id="111" name=""/>
            <p:cNvSpPr/>
            <p:nvPr/>
          </p:nvSpPr>
          <p:spPr>
            <a:xfrm>
              <a:off x="1619280" y="2060640"/>
              <a:ext cx="0" cy="2592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19280" y="4653000"/>
              <a:ext cx="62658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41128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84328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27672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08360" y="2205000"/>
              <a:ext cx="43200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4140360" y="2205000"/>
              <a:ext cx="43164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4572000" y="2205000"/>
              <a:ext cx="431640" cy="2448000"/>
            </a:xfrm>
            <a:prstGeom prst="rect">
              <a:avLst/>
            </a:prstGeom>
            <a:solidFill>
              <a:srgbClr val="cc0000"/>
            </a:solidFill>
            <a:ln w="9360">
              <a:solidFill>
                <a:srgbClr val="ff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03640" y="2205000"/>
              <a:ext cx="432000" cy="2448000"/>
            </a:xfrm>
            <a:prstGeom prst="rect">
              <a:avLst/>
            </a:prstGeom>
            <a:solidFill>
              <a:srgbClr val="a3b2c1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0" name=""/>
          <p:cNvSpPr/>
          <p:nvPr/>
        </p:nvSpPr>
        <p:spPr>
          <a:xfrm>
            <a:off x="971640" y="4941720"/>
            <a:ext cx="6769080" cy="132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Compute GMM in one and other frame onl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-Improvement : Compute GMM only i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rrent frame is similar to previous fram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1-26T03:51:56Z</dcterms:created>
  <dc:creator>Arthur Chan</dc:creator>
  <dc:description/>
  <dc:language>en-US</dc:language>
  <cp:lastModifiedBy>Arthur Chan</cp:lastModifiedBy>
  <dcterms:modified xsi:type="dcterms:W3CDTF">2004-03-04T19:04:47Z</dcterms:modified>
  <cp:revision>188</cp:revision>
  <dc:subject/>
  <dc:title>Progress Report on the  CALO Speed-Up Task</dc:title>
</cp:coreProperties>
</file>