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74456"/>
        <c:axId val="60090995"/>
      </c:barChart>
      <c:catAx>
        <c:axId val="69774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90995"/>
        <c:crosses val="autoZero"/>
        <c:auto val="1"/>
        <c:lblAlgn val="ctr"/>
        <c:lblOffset val="100"/>
        <c:noMultiLvlLbl val="0"/>
      </c:catAx>
      <c:valAx>
        <c:axId val="60090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74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58E3-600B-4016-A88F-3CD0506A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F21F-A126-411F-9261-EE30A532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FA37-172F-482B-8D1A-96B9AEAD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DBC-54FC-413D-8D41-8C52D3A7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90E4-8766-443F-9CDF-51A964AD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A8CA-3CC5-44FE-8C9A-7858C959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FD59-C133-46AA-9221-80C474B3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EBDD-43A7-4337-A525-BBE220E3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DF80-D775-40C9-92C8-3A2B3584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2C68-119F-4DE7-8436-FB4DAE76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1618-4427-4BCD-9478-25F24A5E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420D-3061-4EA3-AEDA-7162030A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73736-C1DC-4163-876F-DAC2D7370F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